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062-D597-4006-A4C8-96B38077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912-8C26-473B-851E-DEE1F53B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2D2-1F82-4F8F-8764-2BD38C63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10C-0D7C-4B3C-AC17-AE6046ED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6B5-4778-4CAE-A7F3-908CD791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396-C2E3-4C2E-A82A-777AEA6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DA5-87C4-47F3-9255-3247BDB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9A8-37CC-4A9D-BF04-449E663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46F-C64A-4F37-A5D3-046CE6B8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DC2-3F95-446C-9423-D3EA425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753-1930-4BFB-B78A-0F5B9977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8BF-D002-4174-8061-A9D9941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6655-EB9D-4C9B-9D82-A0B74CACF02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9  Specia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33720" y="2057400"/>
                <a:ext cx="5246640" cy="34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Testing for a general linear hypothe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Weighted LSE and examp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exanple ,     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wever , it is of doubt that the important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or is really the difference 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the model would be reduc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we test for this reduction ?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35280" y="2060640"/>
                <a:ext cx="558936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W-SS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-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7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&lt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,3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'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more plansible model wonld be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igure9.1" descr=""/>
          <p:cNvPicPr/>
          <p:nvPr/>
        </p:nvPicPr>
        <p:blipFill>
          <a:blip r:embed="rId1"/>
          <a:stretch/>
        </p:blipFill>
        <p:spPr>
          <a:xfrm>
            <a:off x="1600200" y="0"/>
            <a:ext cx="60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9.2" descr=""/>
          <p:cNvPicPr/>
          <p:nvPr/>
        </p:nvPicPr>
        <p:blipFill>
          <a:blip r:embed="rId1"/>
          <a:stretch/>
        </p:blipFill>
        <p:spPr>
          <a:xfrm>
            <a:off x="1905120" y="0"/>
            <a:ext cx="47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able9.1" descr=""/>
          <p:cNvPicPr/>
          <p:nvPr/>
        </p:nvPicPr>
        <p:blipFill>
          <a:blip r:embed="rId1"/>
          <a:stretch/>
        </p:blipFill>
        <p:spPr>
          <a:xfrm>
            <a:off x="167652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Hypothesis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440" y="27684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32000" y="2060640"/>
                <a:ext cx="6788160" cy="38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model :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inclep linear functions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2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-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-1  inclep linear functions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or  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 inclep linear functions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2060640"/>
                <a:ext cx="6942240" cy="34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C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</m:t>
                                </m:r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35280" y="1916280"/>
                <a:ext cx="5621040" cy="43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all the model  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where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  and 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p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e have 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SE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 with  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n-p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 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if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X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Under     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rPr>
                        <m:lit/>
                        <m:nor/>
                      </m:rPr>
                      <m:t xml:space="preserve">the reduced model is       E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r>
                      <m:t xml:space="preserve">Z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  and  Z is n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he OLS of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     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f   {</m:t>
                    </m:r>
                    <m:r>
                      <m:t xml:space="preserve">Z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Z 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16000" y="2133720"/>
                <a:ext cx="7010280" cy="32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new residual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-p-q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ue to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is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W-SS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with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W-SSE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 , n-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 F-test is then applied to the general linear hypothesi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76360" y="1989000"/>
                <a:ext cx="6419880" cy="395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np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duced model is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1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n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ce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 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    SSE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k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 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limLow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limLow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-n {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  <m:e/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r>
                                      <m:t xml:space="preserve">−</m:t>
                                    </m:r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-k-1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, n-k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 overall F-test applie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936960" y="3327480"/>
                <a:ext cx="1270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rked Example  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1832040"/>
                <a:ext cx="4318200" cy="50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orked Example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Where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,4,8,9,3,8,9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0  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1  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95480" y="1676520"/>
                <a:ext cx="3699000" cy="47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   0   3   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  4   0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   0   9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62320" y="1676520"/>
                <a:ext cx="4606920" cy="45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Z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 and  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Z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2:06:02Z</dcterms:modified>
  <cp:revision>52</cp:revision>
  <dc:subject/>
  <dc:title>PowerPoint 簡報</dc:title>
</cp:coreProperties>
</file>