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ED9-6B7E-4C48-B808-81F35F4A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F79-DF76-47C2-9783-72977907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019-8BE3-49F5-B662-11807EEE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E22-818E-4D5D-AA4A-466571DB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FED-C355-4317-8FBB-97ADFCC4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72F-6F07-49E3-8103-D8BD00F7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9B1-FE21-4D04-9171-62720504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E47-908E-4D9D-9F08-A893EDF9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D95-E0DC-4127-9B1D-66C1F95B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421-CE87-490F-8821-B8588A63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2C3-ED2F-40A1-BD90-08984C53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80E-9A4A-417E-B4AA-E2E5B0A9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EB25-BFD5-4B98-9DBE-7C911F95B6E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9  Special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33720" y="2057400"/>
                <a:ext cx="5246640" cy="344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Testing for a general linear hypothe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Weighted LSE and examp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exanple ,      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wever , it is of doubt that the important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dictor is really the difference  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 , the model would be reduced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n we test for this reduction ?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Solution to Worked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835280" y="2060640"/>
                <a:ext cx="558936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W-SS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-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7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&lt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,3,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on't reject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more plansible model wonld be</m:t>
                        </m:r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figure9.1" descr=""/>
          <p:cNvPicPr/>
          <p:nvPr/>
        </p:nvPicPr>
        <p:blipFill>
          <a:blip r:embed="rId1"/>
          <a:stretch/>
        </p:blipFill>
        <p:spPr>
          <a:xfrm>
            <a:off x="1600200" y="0"/>
            <a:ext cx="60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igure9.2" descr=""/>
          <p:cNvPicPr/>
          <p:nvPr/>
        </p:nvPicPr>
        <p:blipFill>
          <a:blip r:embed="rId1"/>
          <a:stretch/>
        </p:blipFill>
        <p:spPr>
          <a:xfrm>
            <a:off x="1905120" y="0"/>
            <a:ext cx="477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able9.1" descr=""/>
          <p:cNvPicPr/>
          <p:nvPr/>
        </p:nvPicPr>
        <p:blipFill>
          <a:blip r:embed="rId1"/>
          <a:stretch/>
        </p:blipFill>
        <p:spPr>
          <a:xfrm>
            <a:off x="1676520" y="0"/>
            <a:ext cx="499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near Hypothesis -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440" y="276840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67000" y="1981080"/>
            <a:ext cx="297180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332000" y="2060640"/>
                <a:ext cx="6788160" cy="38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model :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nple  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 inclep linear functions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nple  2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-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-1  inclep linear functions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or       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 general ,  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k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k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 inclep linear functions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0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2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Testing for a general linear hypo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116000" y="2060640"/>
                <a:ext cx="6942240" cy="34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 general ,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C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C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⋯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k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  <m:r>
                                  <m:t xml:space="preserve">⋯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k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  </m:t>
                                </m:r>
                                <m:r>
                                  <m:t xml:space="preserve">⋮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Testing for a general linear hypo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835280" y="1916280"/>
                <a:ext cx="5621040" cy="43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call the model  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, where 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is  n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,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 is  n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  and </m:t>
                            </m:r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is  p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We have 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SE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  with  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n-p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  </m:t>
                            </m:r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 if  {</m:t>
                            </m:r>
                            <m:r>
                              <m:t xml:space="preserve">X</m:t>
                            </m:r>
                          </m:e>
                        </m:eqAr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X is nonsingula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Under     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C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t xml:space="preserve">0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, </m:t>
                    </m:r>
                    <m:r>
                      <m:rPr>
                        <m:lit/>
                        <m:nor/>
                      </m:rPr>
                      <m:t xml:space="preserve">the reduced model is       E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d>
                    <m:r>
                      <m:t xml:space="preserve">=</m:t>
                    </m:r>
                    <m:r>
                      <m:t xml:space="preserve">Z</m:t>
                    </m:r>
                    <m:limLow>
                      <m:e>
                        <m:r>
                          <m:t xml:space="preserve">α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,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limLow>
                      <m:e>
                        <m:r>
                          <m:t xml:space="preserve">α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-q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  and  Z is n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-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The OLS of </m:t>
                    </m:r>
                    <m:limLow>
                      <m:e>
                        <m:r>
                          <m:t xml:space="preserve">α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       </m:t>
                    </m:r>
                    <m:limLow>
                      <m:e>
                        <m:r>
                          <m:t xml:space="preserve">a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f   {</m:t>
                    </m:r>
                    <m:r>
                      <m:t xml:space="preserve">Z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Z  is nonsingula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Testing for a general linear hypo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116000" y="2133720"/>
                <a:ext cx="7010280" cy="32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new residual 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SSW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-p-q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 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ue to C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 is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SW-SS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with 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 , 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SW-SSE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S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-p</m:t>
                                </m:r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 , n-p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 F-test is then applied to the general linear hypothesi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76360" y="1989000"/>
                <a:ext cx="6419880" cy="395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exanple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-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duced model is 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limLow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1,</m:t>
                            </m:r>
                            <m:r>
                              <m:t xml:space="preserve">⋯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,n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ce  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,    SSW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with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le    SSE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 with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-k-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   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limLow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'</m:t>
                                                </m:r>
                                              </m:sup>
                                            </m:sSup>
                                          </m:e>
                                          <m:li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~</m:t>
                                            </m:r>
                                          </m:lim>
                                        </m:limLow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'</m:t>
                                            </m:r>
                                          </m:sup>
                                        </m:sSup>
                                        <m:limLow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li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~</m:t>
                                            </m:r>
                                          </m:lim>
                                        </m:limLow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-n {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  <m:e/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limLow>
                                      <m:e>
                                        <m:s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p>
                                            <m:r>
                                              <m:t xml:space="preserve">'</m:t>
                                            </m:r>
                                          </m:sup>
                                        </m:sSup>
                                      </m:e>
                                      <m:li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lim>
                                    </m:limLow>
                                    <m:limLow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li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lim>
                                    </m:limLow>
                                    <m:r>
                                      <m:t xml:space="preserve">−</m:t>
                                    </m:r>
                                    <m:limLow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'</m:t>
                                            </m:r>
                                          </m:sup>
                                        </m:sSup>
                                      </m:e>
                                      <m:li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lim>
                                    </m:limLow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limLow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li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lim>
                                    </m:limLow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-k-1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 , n-k-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The overall F-test applies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763640" y="765000"/>
                <a:ext cx="60073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sting for C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t xml:space="preserve">0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- Exampl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63640" y="765000"/>
                <a:ext cx="60073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sting for C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t xml:space="preserve">0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- Exampl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936960" y="3327480"/>
                <a:ext cx="12700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rked Example  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438280" y="1832040"/>
                <a:ext cx="4318200" cy="50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orked Example 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Where   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,4,8,9,3,8,9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X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-1    -1  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1    -1  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-1     1  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1     1  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0    0     0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  0    1     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Solution to Worked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895480" y="1676520"/>
                <a:ext cx="3699000" cy="47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   0   3   4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  4   0   0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   0   9   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Times New Roman"/>
              </a:rPr>
              <a:t>Solution to Worked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362320" y="1676520"/>
                <a:ext cx="4606920" cy="454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Z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 and  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Z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1-1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1-1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0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d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0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1-10T02:06:02Z</dcterms:modified>
  <cp:revision>52</cp:revision>
  <dc:subject/>
  <dc:title>PowerPoint 簡報</dc:title>
</cp:coreProperties>
</file>