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5CC-74C9-4062-A9EA-E2873A3A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32E-C44A-4B58-B0D4-57DEFAB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6E8-03E9-4DDC-B872-D4EA9B66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139-8DA9-4C19-9704-D23FB135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3AA-9BA3-4FE0-90DE-9D445F6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6F-7776-4A12-A310-4A679E1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A1D-D3FB-425A-9085-C9C1254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30C-6237-4C9B-85BB-CC439464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1D0-32BC-42E8-B840-D3FBE0E2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D18-094D-443A-AA7B-FBADDD4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C2A-DB0E-448B-B119-82C62A6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676-DE00-4C46-B43C-F4B439E2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AD7-D96D-465E-BCFB-104F305354D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9  Specia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33720" y="2057400"/>
                <a:ext cx="5246640" cy="34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Testing for a general linear hypothe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Weighted LSE and examp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exanple ,     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wever , it is of doubt that the important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or is really the difference 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the model would be reduc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we test for this reduction ?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35280" y="2060640"/>
                <a:ext cx="558936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W-SS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-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7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&lt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,3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'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more plansible model wonld be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igure9.1" descr=""/>
          <p:cNvPicPr/>
          <p:nvPr/>
        </p:nvPicPr>
        <p:blipFill>
          <a:blip r:embed="rId1"/>
          <a:stretch/>
        </p:blipFill>
        <p:spPr>
          <a:xfrm>
            <a:off x="1600200" y="0"/>
            <a:ext cx="60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9.2" descr=""/>
          <p:cNvPicPr/>
          <p:nvPr/>
        </p:nvPicPr>
        <p:blipFill>
          <a:blip r:embed="rId1"/>
          <a:stretch/>
        </p:blipFill>
        <p:spPr>
          <a:xfrm>
            <a:off x="1905120" y="0"/>
            <a:ext cx="47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able9.1" descr=""/>
          <p:cNvPicPr/>
          <p:nvPr/>
        </p:nvPicPr>
        <p:blipFill>
          <a:blip r:embed="rId1"/>
          <a:stretch/>
        </p:blipFill>
        <p:spPr>
          <a:xfrm>
            <a:off x="167652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Hypothesis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440" y="27684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32000" y="2060640"/>
                <a:ext cx="6788160" cy="38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model :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inclep linear functions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2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-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-1  inclep linear functions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or  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 inclep linear functions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2060640"/>
                <a:ext cx="6942240" cy="34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C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</m:t>
                                </m:r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35280" y="1916280"/>
                <a:ext cx="5621040" cy="43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all the model  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where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  and 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p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e have 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SE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 with  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n-p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 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if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X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Under     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rPr>
                        <m:lit/>
                        <m:nor/>
                      </m:rPr>
                      <m:t xml:space="preserve">the reduced model is       E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r>
                      <m:t xml:space="preserve">Z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  and  Z is n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he OLS of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     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f   {</m:t>
                    </m:r>
                    <m:r>
                      <m:t xml:space="preserve">Z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Z 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16000" y="2133720"/>
                <a:ext cx="7010280" cy="32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new residual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-p-q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ue to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is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W-SS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with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W-SSE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 , n-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 F-test is then applied to the general linear hypothesi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76360" y="1989000"/>
                <a:ext cx="6419880" cy="395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np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duced model is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1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n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ce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 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    SSE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k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 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limLow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limLow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-n {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  <m:e/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r>
                                      <m:t xml:space="preserve">−</m:t>
                                    </m:r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-k-1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, n-k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 overall F-test applie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936960" y="3327480"/>
                <a:ext cx="1270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rked Example  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1832040"/>
                <a:ext cx="4318200" cy="50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orked Example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Where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,4,8,9,3,8,9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0  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1  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95480" y="1676520"/>
                <a:ext cx="3699000" cy="47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   0   3   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  4   0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   0   9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62320" y="1676520"/>
                <a:ext cx="4606920" cy="45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Z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 and  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Z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2:06:02Z</dcterms:modified>
  <cp:revision>52</cp:revision>
  <dc:subject/>
  <dc:title>PowerPoint 簡報</dc:title>
</cp:coreProperties>
</file>