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03E-1413-46DD-B47B-231A1587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103-2C8F-4C64-8F50-E3C51EDE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CB0-4C43-4E65-AEF6-D8E8EA96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955-10E8-4CEE-92F7-74C3B249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858-B386-4C6C-B293-543FFA2A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3E8-1075-4873-B9A7-B8371ABF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515-D151-4C5A-A449-C0039FB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8ED-DE87-4E19-B787-5C91C99A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68C-2E42-47D2-8D3C-4B1B5734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3F9-4F5C-4344-B12A-CC691A3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BC6-0A20-4C63-9D5B-FD36C45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0AD-E3E6-4481-B609-380E358D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DA86-439F-46D6-AE33-0B5BB714C9C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8 Model Checking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63640" y="1844640"/>
                <a:ext cx="5862600" cy="45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iduals other than the ordinary ones,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By solving the normal equations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,  we have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is nor 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Then the fitted values are     </m:t>
                    </m:r>
                    <m:limLow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H</m:t>
                    </m:r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  Where</m:t>
                    </m:r>
                    <m:r>
                      <m:rPr>
                        <m:lit/>
                        <m:nor/>
                      </m:rPr>
                      <m:t xml:space="preserve">      H</m:t>
                    </m:r>
                    <m:r>
                      <m:t xml:space="preserve">=</m:t>
                    </m:r>
                    <m:r>
                      <m:t xml:space="preserve">X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,   {</m:t>
                    </m:r>
                    <m:r>
                      <m:t xml:space="preserve">H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     and    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So ,  </m:t>
                    </m:r>
                    <m:limLow>
                      <m:e>
                        <m:r>
                          <m:t xml:space="preserve">e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H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lim>
                    </m:limLow>
                    <m:r>
                      <m:rPr>
                        <m:lit/>
                        <m:nor/>
                      </m:rPr>
                      <m:t xml:space="preserve">  Also ,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-H   and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-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Partial Resid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92360" y="2133720"/>
                <a:ext cx="5905440" cy="405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⋮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and   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′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n , the partiad residuals for 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Low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see if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provide the residuals for the linearfit 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lot of 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ersus 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tial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76520" y="1981080"/>
                <a:ext cx="608940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- Table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and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tlier - departare from the general tr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lnential observation 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Cook'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stanc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/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ile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redi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lnes from a LS fit when the ith data po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deleted , and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corresponding LS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04000" y="2049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1981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able 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 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’s Stat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352600" y="1844640"/>
                <a:ext cx="4476960" cy="40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Large Di indicate observations who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delation greatly affects the fitted valu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ince  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reover,   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-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↑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the 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nternally      V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Stndentized resid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figure8.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igure8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9360"/>
            <a:ext cx="88390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able8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4792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le2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r-Cov. of 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124000" y="1844640"/>
                <a:ext cx="5402160" cy="42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 {</m:t>
                            </m:r>
                            <m:r>
                              <m:t xml:space="preserve">H</m:t>
                            </m:r>
                          </m:e>
                          <m:e/>
                          <m:e>
                            <m:r>
                              <m:t xml:space="preserve">'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H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H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Let   H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Cor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-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n-Cov of Residual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763640" y="1916280"/>
                <a:ext cx="5808600" cy="38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H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H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means every row of H adds up to 1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so does every column since  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H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limLow>
                                  <m:e>
                                    <m:r>
                                      <m:t xml:space="preserve">1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1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n-Cov of Residual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835280" y="1989000"/>
                <a:ext cx="6402240" cy="408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H is called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      Y into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Moreover, hii is often called </m:t>
                    </m:r>
                    <m:r>
                      <m:t xml:space="preserve">loverage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nce   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icates via 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ow heavily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ontributes to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Finally, V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 and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 trac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/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n,</m:t>
                    </m:r>
                    <m:r>
                      <m:rPr>
                        <m:lit/>
                        <m:nor/>
                      </m:rPr>
                      <m:t xml:space="preserve">where p is the number of regression pavameter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Internally Stadentized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47640" y="2276640"/>
                <a:ext cx="6027840" cy="31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ividing each residual by its standard error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-h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is referred as internally studentized residua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Extra SS due to e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332000" y="1844640"/>
                <a:ext cx="647388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 :  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1</m:t>
                                </m:r>
                              </m:e>
                            </m:d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-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limLow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-1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1700280"/>
                <a:ext cx="115920" cy="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3792600"/>
                <a:ext cx="5294520" cy="24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limLow>
                              <m:e>
                                <m:r>
                                  <m:t xml:space="preserve">c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i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i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the 1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xtra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ei is     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ii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    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-p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i</m:t>
                                    </m:r>
                                  </m:e>
                                </m:d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p-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ides an estimation of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fter deletion of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contribution of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Externally Studentized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87280" y="1989000"/>
                <a:ext cx="6777360" cy="33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ove the effect of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n the estimation of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hav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 the externally studentized residua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: 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p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iduals-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95640" y="1844640"/>
                <a:ext cx="5005440" cy="42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udentiz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ck of fit data-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eck on the influerstial observation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 ,  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,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,  1-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,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 ,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75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75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0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2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36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75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75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42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336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42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Added-Var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19280" y="2060640"/>
                <a:ext cx="6049800" cy="38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Z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be a column of values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other explanatory varia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,   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lead to the residuals</m:t>
                        </m:r>
                      </m:e>
                      <m:e>
                        <m:sSub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ch remove from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ny effect due to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ess the contribution of adding Z to X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ded variable plot -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versus </m:t>
                        </m:r>
                        <m:sSub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1-10T01:41:43Z</dcterms:modified>
  <cp:revision>34</cp:revision>
  <dc:subject/>
  <dc:title>PowerPoint 簡報</dc:title>
</cp:coreProperties>
</file>