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58D-92D9-4518-AFDE-27FAFB29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69E-65F7-473F-B0F2-CDA4A0E6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7F3-5BC8-454C-9823-8F38B00E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9AE-87A7-4FDB-8507-CA97459D7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8D5E-6EF3-4ABE-84DD-3AF3B8AD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2CD-253E-4EB4-8B1D-3EE140B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19AC-E8BE-4549-8249-26E38CA9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9AB-3FA1-42D5-83E2-341E1AE7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1B9-6388-41F8-AF1D-ED12007F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340-03CF-4FC2-B410-071A7704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2E4-1B83-4BDF-8AF7-9EBDDF9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65A-F42E-4593-9555-CAC29984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23A1-6B3A-4A56-9FFC-54D6EAD57AE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8 Model Checking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844640"/>
                <a:ext cx="5862600" cy="45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siduals other than the ordinary ones,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t xml:space="preserve">X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By solving the normal equations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{</m:t>
                            </m:r>
                            <m:r>
                              <m:t xml:space="preserve">X</m:t>
                            </m:r>
                          </m:e>
                        </m:eqAr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,  we have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 is nor singula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Then the fitted values are     </m:t>
                    </m:r>
                    <m:limLow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X</m:t>
                    </m:r>
                    <m:limLow>
                      <m:e>
                        <m:r>
                          <m:t xml:space="preserve">b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H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,  Where</m:t>
                    </m:r>
                    <m:r>
                      <m:rPr>
                        <m:lit/>
                        <m:nor/>
                      </m:rPr>
                      <m:t xml:space="preserve">      H</m:t>
                    </m:r>
                    <m:r>
                      <m:t xml:space="preserve">=</m:t>
                    </m:r>
                    <m:r>
                      <m:t xml:space="preserve">X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,   {</m:t>
                    </m:r>
                    <m:r>
                      <m:t xml:space="preserve">H</m:t>
                    </m:r>
                    <m:sSup>
                      <m:e/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     and    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So ,  </m:t>
                    </m:r>
                    <m:limLow>
                      <m:e>
                        <m:r>
                          <m:t xml:space="preserve">e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lim>
                    </m:limLow>
                    <m:r>
                      <m:rPr>
                        <m:lit/>
                        <m:nor/>
                      </m:rPr>
                      <m:t xml:space="preserve">  Also ,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   and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-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Partial Resid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692360" y="2133720"/>
                <a:ext cx="5905440" cy="405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X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⋮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and 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′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n , the partiad residuals for 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limLow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/>
                                </m:sSup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limLow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see if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provide the residuals for the linearfit 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lot of 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/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ersus 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luential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76520" y="1981080"/>
                <a:ext cx="6089400" cy="411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- Table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 and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utlier - departare from the general tre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flnential observation 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Cook'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77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/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ile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redict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lnes from a LS fit when the ith data poin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s deleted , and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 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corresponding LS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04000" y="2049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1981080"/>
            <a:ext cx="198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Table 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 8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k’s Statis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352600" y="1844640"/>
                <a:ext cx="4476960" cy="40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 Large Di indicate observations whos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delation greatly affects the fitted valu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nce  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−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−</m:t>
                            </m:r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e>
                        </m:d>
                        <m:r>
                          <m:t xml:space="preserve">,</m:t>
                        </m:r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X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r>
                                  <m:t xml:space="preserve">−</m:t>
                                </m:r>
                                <m:limLow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s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reover,      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-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  </m:t>
                        </m:r>
                        <m:r>
                          <m:t xml:space="preserve">↑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the i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nternally      V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Stndentized residv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figure8.1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figure8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9360"/>
            <a:ext cx="88390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able8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447920" y="0"/>
            <a:ext cx="585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able2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r-Cov. of 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124000" y="1844640"/>
                <a:ext cx="5402160" cy="421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ce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β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t xml:space="preserve">−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limLow>
                              <m:e>
                                <m:r>
                                  <m:t xml:space="preserve">β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+</m:t>
                            </m:r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ε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 {</m:t>
                            </m:r>
                            <m:r>
                              <m:t xml:space="preserve">H</m:t>
                            </m:r>
                          </m:e>
                          <m:e/>
                          <m:e>
                            <m:r>
                              <m:t xml:space="preserve">'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H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Let   H</m:t>
                        </m:r>
                        <m:r>
                          <m:t xml:space="preserve">=</m:t>
                        </m:r>
                        <m:sSub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</m:d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,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Cor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-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j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763640" y="1916280"/>
                <a:ext cx="5808600" cy="38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Y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limLow>
                              <m:e>
                                <m:r>
                                  <m:t xml:space="preserve">Y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H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means every row of H adds up to 1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so does every column since  </m:t>
                        </m:r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H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limLow>
                                  <m:e>
                                    <m:r>
                                      <m:t xml:space="preserve">1</m:t>
                                    </m:r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limLow>
                              <m:e>
                                <m:r>
                                  <m:t xml:space="preserve">1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Van-Cov of Residuals-M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835280" y="1989000"/>
                <a:ext cx="6402240" cy="408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Y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H is called  </m:t>
                        </m:r>
                        <m:acc>
                          <m:accPr>
                            <m:chr m:val="^"/>
                          </m:accPr>
                          <m:e/>
                        </m:acc>
                      </m:e>
                    </m:eqArr>
                    <m:r>
                      <m:rPr>
                        <m:lit/>
                        <m:nor/>
                      </m:rPr>
                      <m:t xml:space="preserve">      Y in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Moreover, hii is often called </m:t>
                    </m:r>
                    <m:r>
                      <m:t xml:space="preserve">loverage</m:t>
                    </m:r>
                    <m:r>
                      <m:rPr>
                        <m:lit/>
                        <m:nor/>
                      </m:rPr>
                      <m:t xml:space="preserve"/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nce      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icates via 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how heavily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ontributes to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Finally, V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H and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Low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/n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 trace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/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/n,</m:t>
                    </m:r>
                    <m:r>
                      <m:rPr>
                        <m:lit/>
                        <m:nor/>
                      </m:rPr>
                      <m:t xml:space="preserve">where p is the number of regression pavamet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Internally Sta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47640" y="2276640"/>
                <a:ext cx="6027840" cy="31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viding each residual by its standard error,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-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is referred as internally studentized residua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ra SS due to e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332000" y="1844640"/>
                <a:ext cx="6473880" cy="17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e :   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1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-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-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limLow>
                          <m:e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-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⋯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1700280"/>
                <a:ext cx="115920" cy="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03280" y="3792600"/>
                <a:ext cx="5294520" cy="24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limLow>
                              <m:e>
                                <m:r>
                                  <m:t xml:space="preserve">c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ij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i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, the 1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extra 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ei is     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hii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   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-p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i</m:t>
                                    </m:r>
                                  </m:e>
                                </m:d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ides an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fter deletion of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e contribution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Externally Studentized Residu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87280" y="1989000"/>
                <a:ext cx="6777360" cy="330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ove the effect of 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estimation of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 hav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 the externally studentized residua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te: 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-p-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iduals-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195640" y="1844640"/>
                <a:ext cx="5005440" cy="42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udentiz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ck of fit data-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eck on the influerstial observation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 ,  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,  1-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,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2 ,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3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0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842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36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75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275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336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42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Added-Var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619280" y="2060640"/>
                <a:ext cx="6049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Z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′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be a column of values 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other explanatory variabl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,   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+</m:t>
                        </m:r>
                        <m:limLow>
                          <m:e>
                            <m:r>
                              <m:t xml:space="preserve">ε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 lead to the residuals</m:t>
                        </m:r>
                      </m:e>
                      <m:e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limLow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-H</m:t>
                            </m:r>
                          </m:e>
                        </m:d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 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ch remove from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ny effect due to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ess the contribution of adding Z to X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 variable plot -</m:t>
                        </m:r>
                        <m:limLow>
                          <m:e>
                            <m:r>
                              <m:t xml:space="preserve">e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versus </m:t>
                        </m:r>
                        <m:sSub>
                          <m:e>
                            <m:limLow>
                              <m:e>
                                <m:r>
                                  <m:t xml:space="preserve">e</m:t>
                                </m:r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1-10T01:41:43Z</dcterms:modified>
  <cp:revision>34</cp:revision>
  <dc:subject/>
  <dc:title>PowerPoint 簡報</dc:title>
</cp:coreProperties>
</file>