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8E1-BAEB-433A-ABB3-D4F7015E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D20-F468-431B-9A0E-F917F6C2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DD9-2EBB-4B2F-A1AA-CCA96DBD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DDB-8844-4360-8BE3-0DCC6796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562-2815-4FD4-92C1-3C690245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5A9-597E-4519-BFC6-70CAD211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28F-EE3C-4099-91AE-3C281AD0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DF8-479B-43EE-8D9E-7BDAD86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E3F-4D3B-4B05-B572-F9B85B0B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EC7-A296-40E1-A116-1D39DEC2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D24-930F-43A0-B12A-BF6884A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A26-3653-40E3-A1E8-19E991BF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F83F-BF89-4260-9E1C-01E58DFA020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8 Model Checking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844640"/>
                <a:ext cx="5862600" cy="45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iduals other than the ordinary ones,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y solving the normal equation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  we have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nor 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Then the fitted values are     </m:t>
                    </m:r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H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 Where</m:t>
                    </m:r>
                    <m:r>
                      <m:rPr>
                        <m:lit/>
                        <m:nor/>
                      </m:rPr>
                      <m:t xml:space="preserve">      H</m:t>
                    </m:r>
                    <m:r>
                      <m:t xml:space="preserve">=</m:t>
                    </m:r>
                    <m:r>
                      <m:t xml:space="preserve">X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   {</m:t>
                    </m:r>
                    <m:r>
                      <m:t xml:space="preserve">H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     and    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So ,  </m:t>
                    </m:r>
                    <m:limLow>
                      <m:e>
                        <m:r>
                          <m:t xml:space="preserve">e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lim>
                    </m:limLow>
                    <m:r>
                      <m:rPr>
                        <m:lit/>
                        <m:nor/>
                      </m:rPr>
                      <m:t xml:space="preserve">  Also ,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   and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Partial Resid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2133720"/>
                <a:ext cx="5905440" cy="40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⋮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and 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′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, the partiad residuals for 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ee if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provide the residuals for the linearfit 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ersus 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ti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1981080"/>
                <a:ext cx="608940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- Table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and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lier - departare from the general tr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lnential observation 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ook'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/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il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redi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nes from a LS fit when the ith data po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deleted , and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corresponding LS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04000" y="2049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981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’s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52600" y="1844640"/>
                <a:ext cx="4476960" cy="40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Large Di indicate observations wh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delation greatly affects the fitted valu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nce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reover,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↑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the 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nternally      V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Stndentized resid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figure8.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igure8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9360"/>
            <a:ext cx="8839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8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r-Cov. of 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24000" y="1844640"/>
                <a:ext cx="5402160" cy="42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 {</m:t>
                            </m:r>
                            <m:r>
                              <m:t xml:space="preserve">H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Let   H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Co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63640" y="1916280"/>
                <a:ext cx="5808600" cy="38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means every row of H adds up to 1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so does every column since  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1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1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35280" y="1989000"/>
                <a:ext cx="6402240" cy="408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H is called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     Y in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Moreover, hii is often called </m:t>
                    </m:r>
                    <m:r>
                      <m:t xml:space="preserve">loverage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nce   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icates via 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ow heavily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ontributes 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inally, V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 and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 trac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n,</m:t>
                    </m:r>
                    <m:r>
                      <m:rPr>
                        <m:lit/>
                        <m:nor/>
                      </m:rPr>
                      <m:t xml:space="preserve">where p is the number of regression pavamet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Internally Sta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6027840" cy="31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viding each residual by its standard error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is referred as internally studentized residua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ra SS due to 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332000" y="1844640"/>
                <a:ext cx="64738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 :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-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-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1700280"/>
                <a:ext cx="115920" cy="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3792600"/>
                <a:ext cx="529452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limLow>
                              <m:e>
                                <m:r>
                                  <m:t xml:space="preserve">c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the 1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ei is   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   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i</m:t>
                                    </m:r>
                                  </m:e>
                                </m:d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ides an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fter deletion of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ontribution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ernally Stu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87280" y="1989000"/>
                <a:ext cx="677736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ove the effect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the externally studentized residu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: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iduals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844640"/>
                <a:ext cx="500544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udentiz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data-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eck on the influerstial observation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 ,  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,  1-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 ,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0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2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6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36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Added-Va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19280" y="2060640"/>
                <a:ext cx="6049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Z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be a column of value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explanatory vari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,   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lead to the residuals</m:t>
                        </m:r>
                      </m:e>
                      <m:e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remove from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y effect due to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ess the contribution of adding Z to X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 variable plot -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versus </m:t>
                        </m:r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1:41:43Z</dcterms:modified>
  <cp:revision>34</cp:revision>
  <dc:subject/>
  <dc:title>PowerPoint 簡報</dc:title>
</cp:coreProperties>
</file>