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133-96D1-4356-9A4F-4E4FA28E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F52-241B-439C-A2E9-ADEB6AAA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388-7336-484F-9FFA-78C9ABD8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593-C2AC-4CEA-8FB2-CCF7598E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D9FC-F063-4CF9-914A-7C287DFB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10D-F06A-43BA-9E8C-4ED248D5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B02-7A1E-4CB4-8B92-41DD07B3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2AF-8024-46DA-9918-3E7E2C13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389-E9A3-472B-AF9E-E6D16327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F02-0F3B-48D9-9CD9-9CC43B09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D23-3F7D-4D26-A9BE-92E90F2B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7A5-B427-432D-A0F2-ECE128CE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6306-F71D-4076-BB58-C0E3C5F8CF3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870280" y="380880"/>
                <a:ext cx="3682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7  Correlation of residual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066680"/>
                <a:ext cx="5610240" cy="41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Q: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rially correlated: 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, 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lot of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  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s 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-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,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,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Positive serial correlation  Fig 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Negative serial correlation Fig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Unrelated  Fig 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urbin-Watso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5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u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wed and Eisenhart,194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e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6705720" y="2438280"/>
            <a:ext cx="2133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ig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116000" y="981000"/>
                <a:ext cx="7229520" cy="47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ower- and Upper-tail probabilities associated with 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are given in Table 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 and Table 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pproximate 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1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tests can be used based o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Lower-tail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-</m:t>
                            </m:r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Upper-tail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-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where  u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un test-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08000" y="1989000"/>
                <a:ext cx="5615280" cy="28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3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</m:t>
                        </m:r>
                        <m:r>
                          <m:rPr>
                            <m:lit/>
                            <m:nor/>
                          </m:rPr>
                          <m:t xml:space="preserve">117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3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25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Pr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3</m:t>
                        </m:r>
                        <m:r>
                          <m:rPr>
                            <m:lit/>
                            <m:nor/>
                          </m:rPr>
                          <m:t xml:space="preserve">  or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eject the hypothesis that the aeeangem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of signs is rando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igure7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28800" y="0"/>
            <a:ext cx="491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figure7.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76520" y="0"/>
            <a:ext cx="569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figure7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0"/>
            <a:ext cx="606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able7.1" descr=""/>
          <p:cNvPicPr/>
          <p:nvPr/>
        </p:nvPicPr>
        <p:blipFill>
          <a:blip r:embed="rId1"/>
          <a:stretch/>
        </p:blipFill>
        <p:spPr>
          <a:xfrm>
            <a:off x="1066680" y="0"/>
            <a:ext cx="668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able7.11" descr=""/>
          <p:cNvPicPr/>
          <p:nvPr/>
        </p:nvPicPr>
        <p:blipFill>
          <a:blip r:embed="rId1"/>
          <a:stretch/>
        </p:blipFill>
        <p:spPr>
          <a:xfrm>
            <a:off x="609480" y="0"/>
            <a:ext cx="769644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able7.2" descr=""/>
          <p:cNvPicPr/>
          <p:nvPr/>
        </p:nvPicPr>
        <p:blipFill>
          <a:blip r:embed="rId1"/>
          <a:stretch/>
        </p:blipFill>
        <p:spPr>
          <a:xfrm>
            <a:off x="1371600" y="0"/>
            <a:ext cx="598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able7.3" descr=""/>
          <p:cNvPicPr/>
          <p:nvPr/>
        </p:nvPicPr>
        <p:blipFill>
          <a:blip r:embed="rId1"/>
          <a:stretch/>
        </p:blipFill>
        <p:spPr>
          <a:xfrm>
            <a:off x="1828800" y="0"/>
            <a:ext cx="544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71640" y="482760"/>
                <a:ext cx="2562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rbin-watson te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166760" y="1219320"/>
                <a:ext cx="4167360" cy="42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ar model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u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ψε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here z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are independent of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-1,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nder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0480" y="4468680"/>
                <a:ext cx="10825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170000" y="457200"/>
                <a:ext cx="7211880" cy="49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urbin-Watson statisti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d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</m:den>
                            </m:f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-2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/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nder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the distribution of d is symmetric about 0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able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gives 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nd 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wer and upper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th percentile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sample size n with k covariat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6440" y="2716200"/>
                <a:ext cx="10828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09480" y="457200"/>
                <a:ext cx="4599000" cy="45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esting procedure 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ne- sided test against 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f 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Don't 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f 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Inconclusive for 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d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ne -sided test against 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Repeat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ut replace d b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-d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wo-sided  test against H</m:t>
                        </m:r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f  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or 4-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conclusive,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819520" y="355680"/>
                <a:ext cx="2894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simplified D-W te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914400" y="990720"/>
                <a:ext cx="5845320" cy="36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plified testing procedure 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ne -sided test against 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f 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therwise ,do not 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ne -sided test against 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pea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ut replace d b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-d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wo-sided test against 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f 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r 4-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therwise , do not 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919240" y="380880"/>
                <a:ext cx="2490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-w test -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33520" y="838080"/>
                <a:ext cx="695952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or 50 pairs of dat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, 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under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, 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conclude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or a set of 70 residuals from a linear model with 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                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                  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                    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the D-W test is inconclusiv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owever, the simplified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st 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n favor of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rue </m:t>
                        </m:r>
                        <m:r>
                          <m:t xml:space="preserve">α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un test for Random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63640" y="2205000"/>
                <a:ext cx="567684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+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+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+++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un: a sequence of the same </m:t>
                        </m:r>
                        <m:r>
                          <m:t xml:space="preserve">sign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runs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ndecates if the particular arrangem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of signs is an </m:t>
                        </m:r>
                        <m:r>
                          <m:t xml:space="preserve">extreme</m:t>
                        </m:r>
                        <m:r>
                          <m:rPr>
                            <m:lit/>
                            <m:nor/>
                          </m:rPr>
                          <m:t xml:space="preserve"> arrangemen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oth small and large 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runs show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non</m:t>
                        </m:r>
                        <m:r>
                          <m:t xml:space="preserve">−</m:t>
                        </m:r>
                        <m:r>
                          <m:t xml:space="preserve">randomness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u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187280" y="765000"/>
                <a:ext cx="7064640" cy="587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</m:t>
                        </m:r>
                        <m:r>
                          <m:rPr>
                            <m:lit/>
                            <m:nor/>
                          </m:rPr>
                          <m:t xml:space="preserve">+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re are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 possible arrangements of 2 </m:t>
                        </m:r>
                        <m:r>
                          <m:rPr>
                            <m:lit/>
                            <m:nor/>
                          </m:rP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nd 4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Arrangement                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rPr>
                            <m:lit/>
                            <m:nor/>
                          </m:rPr>
                          <m:t xml:space="preserve">++</m:t>
                        </m:r>
                        <m:r>
                          <m:rPr>
                            <m:lit/>
                            <m:nor/>
                          </m:rPr>
                          <m:t xml:space="preserve">----                     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±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-                    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                    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                    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-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3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</m:t>
                        </m:r>
                        <m:r>
                          <m:rPr>
                            <m:lit/>
                            <m:nor/>
                          </m:rPr>
                          <m:t xml:space="preserve">++</m:t>
                        </m:r>
                        <m:r>
                          <m:rPr>
                            <m:lit/>
                            <m:nor/>
                          </m:rPr>
                          <m:t xml:space="preserve">---                     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</m:t>
                        </m:r>
                        <m:r>
                          <m:t xml:space="preserve">±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                     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                     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-</m:t>
                        </m:r>
                        <m:r>
                          <m:rPr>
                            <m:lit/>
                            <m:nor/>
                          </m:rPr>
                          <m:t xml:space="preserve">++</m:t>
                        </m:r>
                        <m:r>
                          <m:rPr>
                            <m:lit/>
                            <m:nor/>
                          </m:rPr>
                          <m:t xml:space="preserve">--                     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-</m:t>
                        </m:r>
                        <m:r>
                          <m:t xml:space="preserve">±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                     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--</m:t>
                        </m:r>
                        <m:r>
                          <m:rPr>
                            <m:lit/>
                            <m:nor/>
                          </m:rPr>
                          <m:t xml:space="preserve">++</m:t>
                        </m:r>
                        <m:r>
                          <m:rPr>
                            <m:lit/>
                            <m:nor/>
                          </m:rPr>
                          <m:t xml:space="preserve">-                     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--</m:t>
                        </m:r>
                        <m:r>
                          <m:t xml:space="preserve">±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---</m:t>
                        </m:r>
                        <m:r>
                          <m:rPr>
                            <m:lit/>
                            <m:nor/>
                          </m:rPr>
                          <m:t xml:space="preserve">+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u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403280" y="1557360"/>
                <a:ext cx="2649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ull distribution of 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0" name=""/>
          <p:cNvGraphicFramePr/>
          <p:nvPr/>
        </p:nvGraphicFramePr>
        <p:xfrm>
          <a:off x="1258920" y="2205000"/>
          <a:ext cx="7199280" cy="1981080"/>
        </p:xfrm>
        <a:graphic>
          <a:graphicData uri="http://schemas.openxmlformats.org/drawingml/2006/table">
            <a:tbl>
              <a:tblPr/>
              <a:tblGrid>
                <a:gridCol w="2120760"/>
                <a:gridCol w="1220760"/>
                <a:gridCol w="1287720"/>
                <a:gridCol w="1282680"/>
                <a:gridCol w="1287360"/>
              </a:tblGrid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e freq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050920" y="4508640"/>
                <a:ext cx="55134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observed u is 3, since Pr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randomness of observations is not reject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0T01:28:15Z</dcterms:created>
  <dc:creator>nose</dc:creator>
  <dc:description/>
  <dc:language>en-US</dc:language>
  <cp:lastModifiedBy>stat</cp:lastModifiedBy>
  <dcterms:modified xsi:type="dcterms:W3CDTF">2003-10-28T02:07:49Z</dcterms:modified>
  <cp:revision>18</cp:revision>
  <dc:subject/>
  <dc:title>PowerPoint 簡報</dc:title>
</cp:coreProperties>
</file>