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B0E3B-61E1-479B-B6C8-802F9896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BD80-0481-4C6F-AF22-85AC63D10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6937-B7D1-46F6-BF0F-F0FFBAF2C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6F0-6133-4F60-94FA-6C331C6EB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CE5E-45F3-4E17-B1A3-99C56E739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D62-CFA6-4AD1-9E8D-B7572602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1032-9A3E-4CC2-9319-5B3CB805D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6395-6BF8-44CC-90D0-92E4FB19C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6ABD-DA03-4667-94DF-7895CDF5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A737-EC60-4EC4-A256-F4A5207E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EFDC-DEF2-4322-8CEA-287346A25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E403-7DD5-468A-B6CE-666D9487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468A-1C52-42DE-973F-797F01DA5C05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wo Predictor Variables-Exam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" name=""/>
              <p:cNvSpPr txBox="1"/>
              <p:nvPr/>
            </p:nvSpPr>
            <p:spPr>
              <a:xfrm>
                <a:off x="1143000" y="2057400"/>
                <a:ext cx="6854760" cy="41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am data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Table 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+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/>
                        </m:nary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 of operating days in the month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verage monthly temperature 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</m:e>
                      <m:e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98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3</m:t>
                                </m:r>
                              </m:e>
                              <m:e/>
                            </m:d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⋮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609480" y="457200"/>
                <a:ext cx="662940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95% 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 for Y at 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  is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±</m:t>
                        </m:r>
                        <m:r>
                          <m:t xml:space="preserve">t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2,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975</m:t>
                        </m:r>
                        <m:r>
                          <m:t xml:space="preserve">)</m:t>
                        </m:r>
                        <m:r>
                          <m:t xml:space="preserve">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limLow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  <m:r>
                              <m:t xml:space="preserve">C</m:t>
                            </m:r>
                            <m:limLow>
                              <m:e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lim>
                                <m:r>
                                  <m:rPr>
                                    <m:lit/>
                                    <m:nor/>
                                  </m:rPr>
                                  <m:t xml:space="preserve">~</m:t>
                                </m:r>
                              </m:lim>
                            </m:limLow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36</m:t>
                        </m:r>
                        <m:r>
                          <m:t xml:space="preserve">±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74</m:t>
                        </m:r>
                        <m:r>
                          <m:t xml:space="preserve">)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4140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736</m:t>
                        </m:r>
                        <m:r>
                          <m:t xml:space="preserve">±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418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18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154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762120" y="3556080"/>
                <a:ext cx="5765760" cy="13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o obtain the 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for E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or P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for Y over the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ntire possible x-range, replace t</m:t>
                        </m:r>
                        <m:r>
                          <m:t xml:space="preserve">(</m:t>
                        </m:r>
                        <m:r>
                          <m:t xml:space="preserve">ν</m:t>
                        </m:r>
                        <m:r>
                          <m:rPr>
                            <m:lit/>
                            <m:nor/>
                          </m:rPr>
                          <m:t xml:space="preserve">,1-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/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by </m:t>
                        </m:r>
                      </m:e>
                      <m:e>
                        <m:sSup>
                          <m:e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pF</m:t>
                                </m:r>
                                <m:r>
                                  <m:t xml:space="preserve">(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p,n-p,1-</m:t>
                                </m:r>
                                <m:r>
                                  <m:t xml:space="preserve">α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2943360" y="380880"/>
                <a:ext cx="277164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trast and Partitio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85800" y="990720"/>
                <a:ext cx="6016680" cy="426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nxm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(</m:t>
                        </m:r>
                        <m:limLow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,</m:t>
                        </m:r>
                        <m:limLow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limLow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,  where </m:t>
                        </m:r>
                        <m:limLow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is an nx1 vect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atisfying </m:t>
                        </m:r>
                        <m:limLow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'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1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 ,  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t xml:space="preserve">⋯</m:t>
                        </m:r>
                        <m:r>
                          <m:t xml:space="preserve">m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So, m contrast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f 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are </m:t>
                        </m:r>
                        <m:limLow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'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, j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,2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,m or C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the sum of sequence due to C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is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S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C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z</m:t>
                            </m:r>
                            <m:r>
                              <m:t xml:space="preserve">'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C</m:t>
                        </m:r>
                        <m:r>
                          <m:t xml:space="preserve">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or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Y'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C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 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is any solution of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C'C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838080" y="838080"/>
                <a:ext cx="7140600" cy="442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g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Y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,where C'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'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'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z is any solution t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'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-1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X</m:t>
                        </m:r>
                        <m:r>
                          <m:t xml:space="preserve">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r>
                          <m:t xml:space="preserve">i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e 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unique solution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refore SS</m:t>
                        </m:r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'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limLow>
                          <m:e>
                            <m:r>
                              <m:t xml:space="preserve">z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'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(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S due to regression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g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?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  <m:r>
                      <m:t xml:space="preserve">=</m:t>
                    </m:r>
                    <m:limLow>
                      <m:e>
                        <m:r>
                          <m:t xml:space="preserve">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'</m:t>
                    </m:r>
                    <m:limLow>
                      <m:e>
                        <m:r>
                          <m:t xml:space="preserve">Y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where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c'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there 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c'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limLow>
                      <m:e>
                        <m:r>
                          <m:t xml:space="preserve">c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~</m:t>
                        </m:r>
                      </m:lim>
                    </m:limLow>
                    <m:r>
                      <m:t xml:space="preserve">=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and SS</m:t>
                    </m:r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n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which is the S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form the model 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ε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09480" y="457200"/>
                <a:ext cx="6859800" cy="447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eg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For the model 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=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'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where 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n </m:t>
                        </m:r>
                      </m:e>
                      <m:e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'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limLow>
                          <m:e>
                            <m:r>
                              <m:t xml:space="preserve">c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fPr>
                            <m:type m:val="lin"/>
                          </m:fPr>
                          <m:num>
                            <m:sSup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XX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 s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fPr>
                            <m:type m:val="lin"/>
                          </m:fPr>
                          <m:num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d>
                              <m:dPr>
                                <m:begChr m:val="{"/>
                                <m:endChr m:val="}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n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fPr>
                                    <m:type m:val="lin"/>
                                  </m:fPr>
                                  <m:num>
                                    <m:sSup>
                                      <m:e>
                                        <m:acc>
                                          <m:accPr>
                                            <m:chr m:val="¯"/>
                                          </m:acc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acc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XX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ote that this is in fact SS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|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for the model</m:t>
                        </m:r>
                      </m:e>
                      <m:e>
                        <m:r>
                          <m:t xml:space="preserve">Y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ε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09480" y="304920"/>
                <a:ext cx="7442280" cy="594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limLow>
                                  <m:e>
                                    <m:sSub>
                                      <m:e>
                                        <m:r>
                                          <m:t xml:space="preserve">β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e>
                                  <m:li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~</m:t>
                                    </m:r>
                                  </m:lim>
                                </m:limLow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figure6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90720" y="0"/>
            <a:ext cx="685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able6.1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4400" y="0"/>
            <a:ext cx="762012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Fitted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"/>
              <p:cNvSpPr txBox="1"/>
              <p:nvPr/>
            </p:nvSpPr>
            <p:spPr>
              <a:xfrm>
                <a:off x="684360" y="1989000"/>
                <a:ext cx="7848360" cy="381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p>
                                <m:r>
                                  <m:t xml:space="preserve">X</m:t>
                                </m:r>
                              </m:e>
                            </m:d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limLow>
                          <m:e>
                            <m:r>
                              <m:t xml:space="preserve">Y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  <m:e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8</m:t>
                                    </m:r>
                                  </m:sub>
                                </m:sSub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NO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685800" y="1981080"/>
          <a:ext cx="7772400" cy="3564000"/>
        </p:xfrm>
        <a:graphic>
          <a:graphicData uri="http://schemas.openxmlformats.org/drawingml/2006/table">
            <a:tbl>
              <a:tblPr/>
              <a:tblGrid>
                <a:gridCol w="2806560"/>
                <a:gridCol w="648000"/>
                <a:gridCol w="1655640"/>
                <a:gridCol w="1297080"/>
                <a:gridCol w="1365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 of Var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.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qression |  Residn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18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2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09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3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899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.00007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(Correct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81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20.294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(Uncorrect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84.11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2843280" y="2565360"/>
                <a:ext cx="33156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3419640" y="765000"/>
                <a:ext cx="2339640" cy="67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Valu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1258920" y="1916280"/>
                <a:ext cx="6553080" cy="417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p1: 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30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0798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</m:e>
                    </m:eqAr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 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7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Step2:     {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266-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0724X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2029X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 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0</m:t>
                    </m:r>
                    <m:r>
                      <m:t xml:space="preserve">0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             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adj</m:t>
                        </m:r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f>
                      <m:num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87/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158/24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            or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-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1-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489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2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                        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4</m:t>
                    </m:r>
                    <m:r>
                      <m:t xml:space="preserve">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efficient of Vari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"/>
              <p:cNvSpPr txBox="1"/>
              <p:nvPr/>
            </p:nvSpPr>
            <p:spPr>
              <a:xfrm>
                <a:off x="826920" y="1989000"/>
                <a:ext cx="7607520" cy="359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tep1:     s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7926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9,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24</m:t>
                        </m:r>
                      </m:e>
                    </m:eqArr>
                    <m:r>
                      <m:rPr>
                        <m:lit/>
                        <m:nor/>
                      </m:rPr>
                      <m:t xml:space="preserve">             cv</m:t>
                    </m:r>
                    <m:r>
                      <m:t xml:space="preserve">=</m:t>
                    </m:r>
                    <m:r>
                      <m:t xml:space="preserve">s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9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t xml:space="preserve">0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Step1: 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s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77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,  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rPr>
                        <m:lit/>
                        <m:nor/>
                      </m:rPr>
                      <m:t xml:space="preserve">             cv</m:t>
                    </m:r>
                    <m:r>
                      <m:t xml:space="preserve">=</m:t>
                    </m:r>
                    <m:r>
                      <m:t xml:space="preserve">s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24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</m:t>
                    </m:r>
                    <m:r>
                      <m:t xml:space="preserve">0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tra SS/partial F-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685800" y="1981080"/>
          <a:ext cx="7772400" cy="3103560"/>
        </p:xfrm>
        <a:graphic>
          <a:graphicData uri="http://schemas.openxmlformats.org/drawingml/2006/table">
            <a:tbl>
              <a:tblPr/>
              <a:tblGrid>
                <a:gridCol w="2301840"/>
                <a:gridCol w="647640"/>
                <a:gridCol w="1441440"/>
                <a:gridCol w="1440000"/>
                <a:gridCol w="1941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 of Var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.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ression 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d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18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59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9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2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09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.59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59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3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8999  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4.1636  *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.6361  *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(Correct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81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5" name=""/>
          <p:cNvSpPr/>
          <p:nvPr/>
        </p:nvSpPr>
        <p:spPr>
          <a:xfrm>
            <a:off x="826920" y="5445000"/>
            <a:ext cx="748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332000" y="522936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ignificant at level  0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: t-test o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"/>
              <p:cNvSpPr txBox="1"/>
              <p:nvPr/>
            </p:nvSpPr>
            <p:spPr>
              <a:xfrm>
                <a:off x="2556000" y="2852640"/>
                <a:ext cx="33156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547640" y="3284640"/>
                <a:ext cx="738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"/>
              <p:cNvSpPr txBox="1"/>
              <p:nvPr/>
            </p:nvSpPr>
            <p:spPr>
              <a:xfrm>
                <a:off x="1403280" y="3716280"/>
                <a:ext cx="1090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8112240" y="3724200"/>
                <a:ext cx="420480" cy="2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2987640" y="5516640"/>
                <a:ext cx="30481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361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33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xtra SS/partial F-te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1981080"/>
          <a:ext cx="7772400" cy="3103560"/>
        </p:xfrm>
        <a:graphic>
          <a:graphicData uri="http://schemas.openxmlformats.org/drawingml/2006/table">
            <a:tbl>
              <a:tblPr/>
              <a:tblGrid>
                <a:gridCol w="2301840"/>
                <a:gridCol w="647640"/>
                <a:gridCol w="1368360"/>
                <a:gridCol w="1513080"/>
                <a:gridCol w="19414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urce of Var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.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8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gression 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sid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.187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3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.84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628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.09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.34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.84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3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.8999  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1.9063  *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1.8933  *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(Corrected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TW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.815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826920" y="5445000"/>
            <a:ext cx="748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32000" y="522936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＊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significant at level  0.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: t-test of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2556000" y="2852640"/>
                <a:ext cx="331560" cy="45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1547640" y="3284640"/>
                <a:ext cx="7383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1403280" y="3716280"/>
                <a:ext cx="1090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|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6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8112240" y="3686040"/>
                <a:ext cx="420480" cy="35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051000" y="5516640"/>
                <a:ext cx="29210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8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8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8933</m:t>
                            </m:r>
                          </m:e>
                        </m:d>
                      </m:e>
                      <m:sup>
                        <m:r>
                          <m:t xml:space="preserve">1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3645000" y="380880"/>
                <a:ext cx="213336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-Cov matri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52280" y="914400"/>
                <a:ext cx="8939160" cy="544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b</m:t>
                            </m:r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'</m:t>
                        </m:r>
                        <m:r>
                          <m:t xml:space="preserve">X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C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sSub>
                          <m:e>
                            <m:r>
                              <m:t xml:space="preserve">)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=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78747  -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011242       -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6098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                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6207x10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3</m:t>
                                    </m:r>
                                  </m:sup>
                                </m:sSup>
                                <m:r>
                                  <m:rPr>
                                    <m:lit/>
                                    <m:nor/>
                                  </m:rPr>
                                  <m:t xml:space="preserve">  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75467x10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-3</m:t>
                                    </m:r>
                                  </m:sup>
                                </m:sSup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85800" y="228600"/>
                <a:ext cx="4800600" cy="368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or 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 ,</m:t>
                        </m:r>
                        <m:limLow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x'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,32,22</m:t>
                        </m:r>
                        <m:r>
                          <m:t xml:space="preserve">)</m:t>
                        </m:r>
                        <m:r>
                          <m:t xml:space="preserve">,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(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limLow>
                          <m:e>
                            <m:r>
                              <m:t xml:space="preserve">x</m:t>
                            </m:r>
                            <m:sSub>
                              <m:e>
                                <m:r>
                                  <m:t xml:space="preserve">'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C</m:t>
                        </m:r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4377</m:t>
                        </m:r>
                        <m:r>
                          <m:t xml:space="preserve">)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,32,22</m:t>
                        </m:r>
                        <m:r>
                          <m:t xml:space="preserve">)</m:t>
                        </m:r>
                        <m:r>
                          <m:t xml:space="preserve">Calignl</m:t>
                        </m:r>
                        <m:eqAr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</m:e>
                              <m:e/>
                            </m:d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32</m:t>
                                </m:r>
                              </m:e>
                              <m:e/>
                            </m:d>
                          </m:e>
                          <m:e/>
                        </m:eqArr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"/>
              <p:cNvSpPr txBox="1"/>
              <p:nvPr/>
            </p:nvSpPr>
            <p:spPr>
              <a:xfrm>
                <a:off x="838080" y="3886200"/>
                <a:ext cx="6226200" cy="20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the 95%C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I for E</m:t>
                        </m:r>
                        <m:r>
                          <m:t xml:space="preserve">(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at x</m:t>
                            </m:r>
                          </m:e>
                          <m:sub>
                            <m:r>
                              <m:t xml:space="preserve">8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6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r>
                          <m:rPr>
                            <m:lit/>
                            <m:nor/>
                          </m:rPr>
                          <m:t xml:space="preserve">   i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{</m:t>
                        </m:r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</m:eqArr>
                    <m:r>
                      <m:t xml:space="preserve">±</m:t>
                    </m:r>
                    <m:r>
                      <m:t xml:space="preserve">t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2,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75</m:t>
                    </m:r>
                    <m:r>
                      <m:t xml:space="preserve">)</m:t>
                    </m:r>
                    <m:r>
                      <m:t xml:space="preserve">s</m:t>
                    </m:r>
                    <m:rad>
                      <m:radPr>
                        <m:degHide m:val="1"/>
                      </m:radPr>
                      <m:deg/>
                      <m:e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  <m:r>
                          <m:t xml:space="preserve">C</m:t>
                        </m:r>
                        <m:limLow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e>
                          <m:lim>
                            <m:r>
                              <m:rPr>
                                <m:lit/>
                                <m:nor/>
                              </m:rPr>
                              <m:t xml:space="preserve">~</m:t>
                            </m:r>
                          </m:lim>
                        </m:limLow>
                      </m:e>
                    </m:ra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36</m:t>
                    </m:r>
                    <m:r>
                      <m:t xml:space="preserve">±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74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13499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736</m:t>
                    </m:r>
                    <m:r>
                      <m:t xml:space="preserve">±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18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8318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7154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08:35:43Z</dcterms:created>
  <dc:creator>user</dc:creator>
  <dc:description/>
  <dc:language>en-US</dc:language>
  <cp:lastModifiedBy>stat</cp:lastModifiedBy>
  <dcterms:modified xsi:type="dcterms:W3CDTF">2003-10-28T01:42:28Z</dcterms:modified>
  <cp:revision>17</cp:revision>
  <dc:subject/>
  <dc:title>PowerPoint 簡報</dc:title>
</cp:coreProperties>
</file>