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3DF-6879-48D4-B0C9-C112DAAA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73B-D1AB-49FE-BE8C-4CD9F24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7F9-5A4D-4414-BE8E-E7AD1CD8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BC4-0717-4F73-9061-7BAADE51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C9C-8035-4353-899F-26343B2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F8D-9670-4BA2-AF2C-179A8FA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FE4-5D58-4F5B-8F17-22F42D45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AC0-CE87-4455-9102-81ECEC8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E39-65E0-45D6-A3DD-5E6912C3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4F3-B5D1-47E6-ABCC-0113FB1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656-560B-4DF8-BB73-F22FE29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CE7-13B6-41A1-86CE-F3519EC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A7B-A85C-45B3-84FE-F367774A18C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wo Predictor Variables-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057400"/>
                <a:ext cx="685476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 of operating days in the month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 monthly temperature 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8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457200"/>
                <a:ext cx="66294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95%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 for Y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C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14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8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556080"/>
                <a:ext cx="576576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obtain the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r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Y over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tire possible x-range, replace t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,n-p,1-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43360" y="380880"/>
                <a:ext cx="27716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ast and Parti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5800" y="990720"/>
                <a:ext cx="6016680" cy="426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 where 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 nx1 ve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, 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o, m contras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are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 or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sum of sequence due to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S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  <m:r>
                              <m:t xml:space="preserve">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y solution of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C'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838080"/>
                <a:ext cx="7140600" cy="44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where C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z is any solution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que solut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fore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 due to regress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g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'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t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S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which is the S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form the model 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457200"/>
                <a:ext cx="6859800" cy="44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he model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where 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s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 that this is in fact 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model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304920"/>
                <a:ext cx="7442280" cy="59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abl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6201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tt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84360" y="1989000"/>
                <a:ext cx="784836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3564000"/>
        </p:xfrm>
        <a:graphic>
          <a:graphicData uri="http://schemas.openxmlformats.org/drawingml/2006/table">
            <a:tbl>
              <a:tblPr/>
              <a:tblGrid>
                <a:gridCol w="2806560"/>
                <a:gridCol w="648000"/>
                <a:gridCol w="1655640"/>
                <a:gridCol w="1297080"/>
                <a:gridCol w="136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ression |  Resid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000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0.29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Un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4.1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3280" y="256536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19640" y="765000"/>
                <a:ext cx="2339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Valu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58920" y="1916280"/>
                <a:ext cx="655308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798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</m:eqAr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2: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66-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724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029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0</m:t>
                    </m:r>
                    <m:r>
                      <m:t xml:space="preserve">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7/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/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o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8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efficient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26920" y="1989000"/>
                <a:ext cx="760752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1: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,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441440"/>
                <a:gridCol w="144000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1636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361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112240" y="3724200"/>
                <a:ext cx="4204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5516640"/>
                <a:ext cx="30481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6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368360"/>
                <a:gridCol w="151308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063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8933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12240" y="3686040"/>
                <a:ext cx="4204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1000" y="5516640"/>
                <a:ext cx="2921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33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45000" y="380880"/>
                <a:ext cx="2133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-Cov matri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2280" y="914400"/>
                <a:ext cx="8939160" cy="54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8747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1242     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609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620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546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28600"/>
                <a:ext cx="480060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32,2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32,22</m:t>
                        </m:r>
                        <m:r>
                          <m:t xml:space="preserve">)</m:t>
                        </m:r>
                        <m:r>
                          <m:t xml:space="preserve">C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8080" y="3886200"/>
                <a:ext cx="62262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 95%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349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5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28T01:42:28Z</dcterms:modified>
  <cp:revision>17</cp:revision>
  <dc:subject/>
  <dc:title>PowerPoint 簡報</dc:title>
</cp:coreProperties>
</file>