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0D1-FDD0-444D-8662-217F627A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F4F-5292-4BCB-80CB-3BC470B1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698-5E73-44F5-85BD-9A253311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BC6-7E4B-42E0-9436-ABF5D8D9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98E-A189-41B2-810A-7EACC82B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9C8-2B07-485A-9C89-52E146F4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27B-58A9-42CF-957F-794E2F1A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311-2E70-4D8B-8B4F-D3B37568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282-C0A3-4323-82AF-609E4890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50C-2F1E-454E-89AD-B2DE46F3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C47-05CE-452C-A1A9-ADC8F5A4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E08-6006-4E22-ACEA-F9B4100A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3717-C455-4BE5-8719-8843AD9156B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wo Predictor Variables-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43000" y="2057400"/>
                <a:ext cx="685476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 dat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 of operating days in the month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 monthly temperature 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8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457200"/>
                <a:ext cx="66294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95% 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 for Y at 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  is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C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6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4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414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6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18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5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556080"/>
                <a:ext cx="576576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obtain the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or 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Y over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ntire possible x-range, replace t</m:t>
                        </m:r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,n-p,1-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43360" y="380880"/>
                <a:ext cx="27716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ast and Parti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85800" y="990720"/>
                <a:ext cx="6016680" cy="426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x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,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,  where 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 an nx1 ve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fying </m:t>
                        </m:r>
                        <m:limLow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,  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⋯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o, m contras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are </m:t>
                        </m:r>
                        <m:limLow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 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m or C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sum of sequence due to C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S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z</m:t>
                            </m:r>
                            <m:r>
                              <m:t xml:space="preserve">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 any solution of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C'C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8080" y="838080"/>
                <a:ext cx="7140600" cy="44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g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where C'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'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z is any solution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'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que solution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fore SS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'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 due to regression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g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?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limLow>
                      <m:e>
                        <m:r>
                          <m:t xml:space="preserve">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'</m:t>
                    </m:r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re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c'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there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c'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limLow>
                      <m:e>
                        <m:r>
                          <m:t xml:space="preserve">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SS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which is the S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form the model 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457200"/>
                <a:ext cx="6859800" cy="44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the model 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where 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s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e that this is in fact 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the model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09480" y="304920"/>
                <a:ext cx="7442280" cy="594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igure6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able6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0"/>
            <a:ext cx="76201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tte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84360" y="1989000"/>
                <a:ext cx="784836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3564000"/>
        </p:xfrm>
        <a:graphic>
          <a:graphicData uri="http://schemas.openxmlformats.org/drawingml/2006/table">
            <a:tbl>
              <a:tblPr/>
              <a:tblGrid>
                <a:gridCol w="2806560"/>
                <a:gridCol w="648000"/>
                <a:gridCol w="1655640"/>
                <a:gridCol w="1297080"/>
                <a:gridCol w="136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of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ression |  Resid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1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9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000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0.29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Un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4.1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43280" y="2565360"/>
                <a:ext cx="331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419640" y="765000"/>
                <a:ext cx="23396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Valu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258920" y="1916280"/>
                <a:ext cx="655308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p1: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0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798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e>
                    </m:eqAr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Step2: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66-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724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029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0</m:t>
                    </m:r>
                    <m:r>
                      <m:t xml:space="preserve">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87/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/2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  o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8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efficient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826920" y="1989000"/>
                <a:ext cx="7607520" cy="35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p1:     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6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,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4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 cv</m:t>
                    </m:r>
                    <m:r>
                      <m:t xml:space="preserve">=</m:t>
                    </m:r>
                    <m:r>
                      <m:t xml:space="preserve">s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Step1: 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7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,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rPr>
                        <m:lit/>
                        <m:nor/>
                      </m:rPr>
                      <m:t xml:space="preserve">             cv</m:t>
                    </m:r>
                    <m:r>
                      <m:t xml:space="preserve">=</m:t>
                    </m:r>
                    <m:r>
                      <m:t xml:space="preserve">s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tra SS/partial F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3103560"/>
        </p:xfrm>
        <a:graphic>
          <a:graphicData uri="http://schemas.openxmlformats.org/drawingml/2006/table">
            <a:tbl>
              <a:tblPr/>
              <a:tblGrid>
                <a:gridCol w="2301840"/>
                <a:gridCol w="647640"/>
                <a:gridCol w="1441440"/>
                <a:gridCol w="1440000"/>
                <a:gridCol w="1941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of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d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1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9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9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9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999  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1636  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6361  *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1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826920" y="544500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2293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gnificant at level  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t-test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56000" y="2852640"/>
                <a:ext cx="331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47640" y="3284640"/>
                <a:ext cx="7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403280" y="3716280"/>
                <a:ext cx="1090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112240" y="3724200"/>
                <a:ext cx="4204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987640" y="5516640"/>
                <a:ext cx="30481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61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tra SS/partial F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3103560"/>
        </p:xfrm>
        <a:graphic>
          <a:graphicData uri="http://schemas.openxmlformats.org/drawingml/2006/table">
            <a:tbl>
              <a:tblPr/>
              <a:tblGrid>
                <a:gridCol w="2301840"/>
                <a:gridCol w="647640"/>
                <a:gridCol w="1368360"/>
                <a:gridCol w="1513080"/>
                <a:gridCol w="1941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of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d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1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3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84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9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3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84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999  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063  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8933  *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1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826920" y="544500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52293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gnificant at level  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t-test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56000" y="2852640"/>
                <a:ext cx="331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47640" y="3284640"/>
                <a:ext cx="7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403280" y="3716280"/>
                <a:ext cx="1090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112240" y="3686040"/>
                <a:ext cx="4204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051000" y="5516640"/>
                <a:ext cx="2921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33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45000" y="380880"/>
                <a:ext cx="2133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-Cov matri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52280" y="914400"/>
                <a:ext cx="8939160" cy="54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8747  -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11242       -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6098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 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6207x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 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5467x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</m:t>
                                    </m:r>
                                  </m:sup>
                                </m:sSup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85800" y="228600"/>
                <a:ext cx="480060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  <m:limLow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'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32,2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x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7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32,22</m:t>
                        </m:r>
                        <m:r>
                          <m:t xml:space="preserve">)</m:t>
                        </m:r>
                        <m:r>
                          <m:t xml:space="preserve">Calignl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8080" y="3886200"/>
                <a:ext cx="62262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 95%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t 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  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)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6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349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6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1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5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28T01:42:28Z</dcterms:modified>
  <cp:revision>17</cp:revision>
  <dc:subject/>
  <dc:title>PowerPoint 簡報</dc:title>
</cp:coreProperties>
</file>