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6D7-6F67-4B98-8308-507D1FB9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05-76FD-47F0-A992-9A43B144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726-6644-4546-9C5D-A78D4F48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E14-9CBF-4E68-B2BC-BFA6998D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A20-8F6A-4C4C-A19F-E5EB17E4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7D5-A246-48AE-B9B8-658749F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9DB-1A5E-494D-B43B-34BCD882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090-E476-47AC-B2C2-9BACA2E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43C-12D7-4F2E-9F8B-4DF60FD6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551-6CB6-4F40-8271-5C981F1E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E5B-F714-4232-93AC-A4CAB16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221-3D5D-4812-956F-9BB86E63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32A-AAE0-4FA0-BB01-5FA4F5F04E2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02120" y="355680"/>
                <a:ext cx="23079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-test and F-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04920" y="939960"/>
                <a:ext cx="858672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 with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p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3, the t-test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s not equivalent to the F-test of 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n fact, rejection of the F-test does not imp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jection of the t-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4920" y="3276720"/>
                <a:ext cx="8737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F-test indicate the plansible of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imultaneously on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rpretation  of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owever, the t-test shows the </m:t>
                        </m:r>
                        <m:r>
                          <m:t xml:space="preserve">marginal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extra</m:t>
                        </m:r>
                        <m:r>
                          <m:rPr>
                            <m:lit/>
                            <m:nor/>
                          </m:rPr>
                          <m:t xml:space="preserve"> contribution due to the predict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hen other predictors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involv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79680" y="380880"/>
                <a:ext cx="5583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6  Tests for Several Regression Paramet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85800" y="1219320"/>
                <a:ext cx="7572240" cy="33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el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t  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 the LSE of the regression parameters in Model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respectivel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248520" y="608328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380880"/>
                <a:ext cx="12160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tra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5040" y="1143000"/>
                <a:ext cx="782316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t 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 the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 due to the regression models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pectively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,the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 due to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87280" y="1844640"/>
                <a:ext cx="743112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and , if 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where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MSE computes from Mode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Th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rtia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-test then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if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≥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al F-test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28800" y="1535040"/>
                <a:ext cx="7754760" cy="441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 Model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 Mode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Sequenti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Each test based on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a t-test for extr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contribution due to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where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the residua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MS for the model involving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al F-test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1844640"/>
                <a:ext cx="8151840" cy="32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where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residual MS for the model with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However, 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not attain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For polynomial mode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Testing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nswers the ques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Do we need the quadratic curvature in the model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However, it does not make sense to test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M601</cp:lastModifiedBy>
  <dcterms:modified xsi:type="dcterms:W3CDTF">2003-10-20T14:25:40Z</dcterms:modified>
  <cp:revision>30</cp:revision>
  <dc:subject/>
  <dc:title>PowerPoint 簡報</dc:title>
</cp:coreProperties>
</file>