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F7E-8F36-4FB6-ADD4-5B08B210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803-B360-41C6-9571-90E4E547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4B9-F583-4B2B-BE2D-A9A28236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34E-B987-4A4C-9D9B-F003C72A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B1A-63A6-4DEF-9C12-C4E4E98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36E-D6B1-444A-B15D-59E5697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94A-32FF-447C-A179-53AEA173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091-1DD4-43F8-89CE-20116DD2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EB7-DABE-4089-904C-7C2514D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234-3977-408C-A313-7D6DCB9E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28D-C793-4567-A778-FA87C726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56C-E90E-468A-BB6B-34895463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013-EE03-418A-A044-603272D3795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02120" y="355680"/>
                <a:ext cx="23079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-test and F-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04920" y="939960"/>
                <a:ext cx="858672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 with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p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3, the t-test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s not equivalent to the F-test of 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n fact, rejection of the F-test does not imp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jection of the t-t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04920" y="3276720"/>
                <a:ext cx="8737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F-test indicate the plansible of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imultaneously on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rpretation  of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owever, the t-test shows the </m:t>
                        </m:r>
                        <m:r>
                          <m:t xml:space="preserve">marginal</m:t>
                        </m:r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extra</m:t>
                        </m:r>
                        <m:r>
                          <m:rPr>
                            <m:lit/>
                            <m:nor/>
                          </m:rPr>
                          <m:t xml:space="preserve"> contribution due to the predict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hen other predictors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involv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79680" y="380880"/>
                <a:ext cx="5583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6  Tests for Several Regression Paramete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85800" y="1219320"/>
                <a:ext cx="7572240" cy="33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del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t   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 the LSE of the regression parameters in Model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 respectivel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248520" y="608328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0400" y="380880"/>
                <a:ext cx="12160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tra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35040" y="1143000"/>
                <a:ext cx="782316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t 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 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 the extra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 due to the regression models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pectively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,the extra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 due to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-q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rtial F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87280" y="1844640"/>
                <a:ext cx="7431120" cy="31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and , if 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where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MSE computes from Model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Th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rtia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-test then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if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≥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rtial F-test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28800" y="1535040"/>
                <a:ext cx="7754760" cy="441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du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 Model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Residu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 Model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Sequenti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Each test based on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s a t-test for extr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contribution due to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where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s the residual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MS for the model involving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rtial F-test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9640" y="1844640"/>
                <a:ext cx="8151840" cy="32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where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residual MS for the model with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However, 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not attain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For polynomial mode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Testing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nswers the ques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Do we need the quadratic curvature in the model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However, it does not make sense to test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M601</cp:lastModifiedBy>
  <dcterms:modified xsi:type="dcterms:W3CDTF">2003-10-20T14:25:40Z</dcterms:modified>
  <cp:revision>30</cp:revision>
  <dc:subject/>
  <dc:title>PowerPoint 簡報</dc:title>
</cp:coreProperties>
</file>