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2037-9C91-4BDD-BD34-02509900A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2F33-3AFA-41E3-A52D-112DFC25F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D401-08A7-4406-B3E6-A0D55A4D8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5768-E96C-4C9D-8261-0B5FB9530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FAB8-66D9-4166-8EFF-453A46389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812A-90F1-4EC6-8BB9-0AEAD7473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3B84-6F68-409A-975B-AEDBA19A2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1553-1236-4341-80A8-9ADA3E73E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AD95-5E50-4DA0-B563-5842B80DB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D758-ACF9-44B1-8B44-CE2DE5EC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E770-C410-472E-B98F-228F3CA8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EE69-C474-42AB-B86D-1BE396B4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284F2-3F4A-48F6-A4ED-800A6B7427F8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7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h5  General Linear Regress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10/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2133720" y="1981080"/>
                <a:ext cx="5232240" cy="340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r>
                          <m:t xml:space="preserve">X</m:t>
                        </m:r>
                        <m:limLow>
                          <m:e>
                            <m:r>
                              <m:t xml:space="preserve">β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r>
                              <m:t xml:space="preserve">ε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  </m:t>
                        </m:r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: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×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vector of observation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X</m:t>
                        </m:r>
                        <m:r>
                          <m:t xml:space="preserve">: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×</m:t>
                            </m:r>
                            <m:r>
                              <m:t xml:space="preserve">p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matrix of known for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limLow>
                          <m:e>
                            <m:r>
                              <m:t xml:space="preserve">β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:</m:t>
                        </m:r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×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vector of parameter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limLow>
                          <m:e>
                            <m:r>
                              <m:t xml:space="preserve">ε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: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×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vector of error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    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limLow>
                              <m:e>
                                <m:r>
                                  <m:t xml:space="preserve">ε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</m:e>
                        </m:d>
                        <m:r>
                          <m:t xml:space="preserve">=</m:t>
                        </m:r>
                        <m:limLow>
                          <m:e>
                            <m:r>
                              <m:t xml:space="preserve">0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  ,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limLow>
                              <m:e>
                                <m:r>
                                  <m:t xml:space="preserve">ε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onfidence Intervals v.s. Reg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295280"/>
            <a:ext cx="8001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Note 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. The area of Scheffe limits is less than that of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nferroni limits for the same          .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( Fig. 5.1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he shape of the Scheffe CR depends on the var-cov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 of       .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( Fig. 5.2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638680" y="1905120"/>
                <a:ext cx="68580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276720" y="2971800"/>
                <a:ext cx="2426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b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6172200" y="60958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304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.I. v.s. C.R. ---mor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72200" y="62485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12952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55600" y="1295280"/>
                <a:ext cx="568800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e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n</m:t>
                    </m:r>
                    <m:r>
                      <m:t xml:space="preserve">d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v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219320" y="1981080"/>
                <a:ext cx="5182920" cy="22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n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me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±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ha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re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ts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⋯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p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19320" y="4419720"/>
                <a:ext cx="5790960" cy="17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oreover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re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cheff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p/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⋯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p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914400" y="457200"/>
                <a:ext cx="762012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where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terminan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rrelatio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tri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(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j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916200" y="1752480"/>
            <a:ext cx="5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676520" y="1752480"/>
                <a:ext cx="4647960" cy="153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num>
                      <m:den>
                        <m:r>
                          <m:t xml:space="preserve">Γ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bSup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066680" y="3352680"/>
                <a:ext cx="6934320" cy="26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here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r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uncorrelated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  <m:r>
                          <m:t xml:space="preserve"> 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how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  <m:r>
                          <m:t xml:space="preserve"> </m:t>
                        </m:r>
                        <m:r>
                          <m:t xml:space="preserve">α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r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rrelated</m:t>
                        </m:r>
                        <m:r>
                          <m:t xml:space="preserve"> </m:t>
                        </m:r>
                        <m:r>
                          <m:t xml:space="preserve">?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i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quires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Γ</m:t>
                                    </m:r>
                                    <m:r>
                                      <m:t xml:space="preserve">(</m:t>
                                    </m:r>
                                    <m:f>
                                      <m:num>
                                        <m:r>
                                          <m:t xml:space="preserve">p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2</m:t>
                                    </m:r>
                                  </m:num>
                                  <m:den>
                                    <m:r>
                                      <m:t xml:space="preserve">p</m:t>
                                    </m:r>
                                  </m:den>
                                </m:f>
                              </m:sup>
                            </m:sSup>
                          </m:num>
                          <m:den>
                            <m:r>
                              <m:t xml:space="preserve">πp</m:t>
                            </m:r>
                          </m:den>
                        </m:f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6172200" y="62485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72200" y="62485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480" y="5335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Not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600200" y="990720"/>
                <a:ext cx="3124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3" name=""/>
          <p:cNvGrpSpPr/>
          <p:nvPr/>
        </p:nvGrpSpPr>
        <p:grpSpPr>
          <a:xfrm>
            <a:off x="1295280" y="1752480"/>
            <a:ext cx="6781680" cy="928440"/>
            <a:chOff x="1295280" y="1752480"/>
            <a:chExt cx="6781680" cy="928440"/>
          </a:xfrm>
        </p:grpSpPr>
        <p:sp>
          <p:nvSpPr>
            <p:cNvPr id="114" name=""/>
            <p:cNvSpPr/>
            <p:nvPr/>
          </p:nvSpPr>
          <p:spPr>
            <a:xfrm>
              <a:off x="1295280" y="2147760"/>
              <a:ext cx="678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361960" y="17665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6" name=""/>
                <p:cNvSpPr txBox="1"/>
                <p:nvPr/>
              </p:nvSpPr>
              <p:spPr>
                <a:xfrm>
                  <a:off x="1676160" y="1766520"/>
                  <a:ext cx="28116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7" name=""/>
                <p:cNvSpPr txBox="1"/>
                <p:nvPr/>
              </p:nvSpPr>
              <p:spPr>
                <a:xfrm>
                  <a:off x="1371240" y="2300040"/>
                  <a:ext cx="914400" cy="29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00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θ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8" name=""/>
                <p:cNvSpPr txBox="1"/>
                <p:nvPr/>
              </p:nvSpPr>
              <p:spPr>
                <a:xfrm>
                  <a:off x="2742840" y="1766520"/>
                  <a:ext cx="20484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9" name=""/>
                <p:cNvSpPr txBox="1"/>
                <p:nvPr/>
              </p:nvSpPr>
              <p:spPr>
                <a:xfrm>
                  <a:off x="3581280" y="1766520"/>
                  <a:ext cx="29196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>
                  <a:off x="5443200" y="1766520"/>
                  <a:ext cx="29232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1" name=""/>
                <p:cNvSpPr txBox="1"/>
                <p:nvPr/>
              </p:nvSpPr>
              <p:spPr>
                <a:xfrm>
                  <a:off x="4543200" y="1752480"/>
                  <a:ext cx="26352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2" name=""/>
                <p:cNvSpPr txBox="1"/>
                <p:nvPr/>
              </p:nvSpPr>
              <p:spPr>
                <a:xfrm>
                  <a:off x="7270560" y="1752480"/>
                  <a:ext cx="29376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3" name=""/>
                <p:cNvSpPr txBox="1"/>
                <p:nvPr/>
              </p:nvSpPr>
              <p:spPr>
                <a:xfrm>
                  <a:off x="6372000" y="1752480"/>
                  <a:ext cx="26352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4" name=""/>
                <p:cNvSpPr txBox="1"/>
                <p:nvPr/>
              </p:nvSpPr>
              <p:spPr>
                <a:xfrm>
                  <a:off x="2626920" y="2209680"/>
                  <a:ext cx="438480" cy="41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95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5" name=""/>
                <p:cNvSpPr txBox="1"/>
                <p:nvPr/>
              </p:nvSpPr>
              <p:spPr>
                <a:xfrm>
                  <a:off x="7197480" y="2209680"/>
                  <a:ext cx="439920" cy="41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8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6" name=""/>
                <p:cNvSpPr txBox="1"/>
                <p:nvPr/>
              </p:nvSpPr>
              <p:spPr>
                <a:xfrm>
                  <a:off x="3479400" y="2209680"/>
                  <a:ext cx="409680" cy="41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9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7" name=""/>
                <p:cNvSpPr txBox="1"/>
                <p:nvPr/>
              </p:nvSpPr>
              <p:spPr>
                <a:xfrm>
                  <a:off x="4455720" y="2209680"/>
                  <a:ext cx="438480" cy="41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88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8" name=""/>
                <p:cNvSpPr txBox="1"/>
                <p:nvPr/>
              </p:nvSpPr>
              <p:spPr>
                <a:xfrm>
                  <a:off x="5370120" y="2209680"/>
                  <a:ext cx="438480" cy="41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86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9" name=""/>
                <p:cNvSpPr txBox="1"/>
                <p:nvPr/>
              </p:nvSpPr>
              <p:spPr>
                <a:xfrm>
                  <a:off x="6283080" y="2209680"/>
                  <a:ext cx="439920" cy="41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84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295280" y="3276720"/>
                <a:ext cx="6392880" cy="21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varie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ittl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given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general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α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tate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bove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→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bSup>
                        <m:r>
                          <m:t xml:space="preserve"> 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85800" y="304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I v.s. CR---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62485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603360" y="1143000"/>
                <a:ext cx="8397720" cy="351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team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ata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2</m:t>
                        </m:r>
                      </m:e>
                      <m:e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bSup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06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o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%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cheff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llips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ver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bou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%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re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ctangl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i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172200" y="62485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304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I v.s. CR---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685800" y="1219320"/>
                <a:ext cx="792468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team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ata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e>
                      <m:e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977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o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86%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llipsoi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ver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nl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bout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%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ctangula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lock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685800" y="3276720"/>
                <a:ext cx="8153280" cy="19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HW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Bonus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ha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valu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onferroni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ink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llipsoid</m:t>
                        </m:r>
                        <m:r>
                          <m:t xml:space="preserve"> </m:t>
                        </m:r>
                        <m:r>
                          <m:t xml:space="preserve">?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figure5.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533520"/>
            <a:ext cx="9144000" cy="50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figure5.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196920"/>
            <a:ext cx="9144000" cy="66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figure5.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838080"/>
            <a:ext cx="9144000" cy="50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General Linear Regr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2044800" y="1295280"/>
                <a:ext cx="5487840" cy="502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nce </m:t>
                        </m:r>
                        <m:r>
                          <m:t xml:space="preserve">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limLow>
                              <m:e>
                                <m:r>
                                  <m:t xml:space="preserve">ε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</m:e>
                        </m:d>
                        <m:r>
                          <m:t xml:space="preserve">=</m:t>
                        </m:r>
                        <m:limLow>
                          <m:e>
                            <m:r>
                              <m:t xml:space="preserve">0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  , 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limLow>
                              <m:e>
                                <m:r>
                                  <m:t xml:space="preserve">Y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</m:e>
                        </m:d>
                        <m:r>
                          <m:t xml:space="preserve">=</m:t>
                        </m:r>
                        <m:r>
                          <m:t xml:space="preserve">X</m:t>
                        </m:r>
                        <m:limLow>
                          <m:e>
                            <m:r>
                              <m:t xml:space="preserve">β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</m:e>
                      <m:e>
                        <m:limLow>
                          <m:e>
                            <m:sSup>
                              <m:e>
                                <m:r>
                                  <m:t xml:space="preserve">ε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limLow>
                          <m:e>
                            <m:r>
                              <m:t xml:space="preserve">ε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r>
                          <m:t xml:space="preserve">(</m:t>
                        </m:r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−</m:t>
                        </m:r>
                        <m:r>
                          <m:t xml:space="preserve">X</m:t>
                        </m:r>
                        <m:limLow>
                          <m:e>
                            <m:r>
                              <m:t xml:space="preserve">β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−</m:t>
                        </m:r>
                        <m:r>
                          <m:t xml:space="preserve">X</m:t>
                        </m:r>
                        <m:limLow>
                          <m:e>
                            <m:r>
                              <m:t xml:space="preserve">β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=</m:t>
                        </m:r>
                        <m:limLow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−</m:t>
                        </m:r>
                        <m:limLow>
                          <m:e>
                            <m:sSup>
                              <m:e>
                                <m:r>
                                  <m:t xml:space="preserve">β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−</m:t>
                        </m:r>
                        <m:limLow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X</m:t>
                        </m:r>
                        <m:limLow>
                          <m:e>
                            <m:r>
                              <m:t xml:space="preserve">β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sSup>
                              <m:e>
                                <m:r>
                                  <m:t xml:space="preserve">β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X</m:t>
                        </m:r>
                        <m:limLow>
                          <m:e>
                            <m:r>
                              <m:t xml:space="preserve">β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=</m:t>
                        </m:r>
                        <m:limLow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+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X</m:t>
                        </m:r>
                        <m:limLow>
                          <m:e>
                            <m:r>
                              <m:t xml:space="preserve">β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normarl equations 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)</m:t>
                        </m:r>
                        <m:limLow>
                          <m:e>
                            <m:r>
                              <m:t xml:space="preserve">b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f 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is nonsingular, then the LSE of </m:t>
                        </m:r>
                        <m:limLow>
                          <m:e>
                            <m:r>
                              <m:t xml:space="preserve">β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</m:t>
                        </m:r>
                        <m:limLow>
                          <m:e>
                            <m:r>
                              <m:t xml:space="preserve">b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10/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1282680" y="1079640"/>
                <a:ext cx="6732720" cy="34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te: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If 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rPr>
                            <m:lit/>
                            <m:nor/>
                          </m:rPr>
                          <m:t xml:space="preserve"> iid N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,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,  then </m:t>
                        </m:r>
                        <m:limLow>
                          <m:e>
                            <m:r>
                              <m:t xml:space="preserve">b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is MLE of </m:t>
                        </m:r>
                        <m:limLow>
                          <m:e>
                            <m:r>
                              <m:t xml:space="preserve">β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If 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rPr>
                            <m:lit/>
                            <m:nor/>
                          </m:rPr>
                          <m:t xml:space="preserve"> iid DEXP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σ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,  then the MLE of </m:t>
                        </m:r>
                        <m:limLow>
                          <m:e>
                            <m:r>
                              <m:t xml:space="preserve">β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the valne minimizing 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,  </m:t>
                        </m:r>
                        <m:r>
                          <m:rPr>
                            <m:lit/>
                            <m:nor/>
                          </m:rPr>
                          <m:t xml:space="preserve">not 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et </m:t>
                        </m:r>
                        <m:r>
                          <m:t xml:space="preserve">Z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rPr>
                            <m:lit/>
                            <m:nor/>
                          </m:rPr>
                          <m:t xml:space="preserve">DEXP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σ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,  then its pdf 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σ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z</m:t>
                                </m:r>
                              </m:e>
                            </m:d>
                            <m:r>
                              <m:t xml:space="preserve">σ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,  -</m:t>
                        </m:r>
                        <m:r>
                          <m:t xml:space="preserve">∞</m:t>
                        </m:r>
                        <m:r>
                          <m:t xml:space="preserve">&lt;</m:t>
                        </m:r>
                        <m:r>
                          <m:t xml:space="preserve">z</m:t>
                        </m:r>
                        <m:r>
                          <m:t xml:space="preserve">&lt;</m:t>
                        </m:r>
                        <m:r>
                          <m:t xml:space="preserve">∞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10/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Least Squares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295280" y="2209680"/>
                <a:ext cx="7112160" cy="287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eqAr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ssume  </m:t>
                            </m:r>
                            <m:r>
                              <m:t xml:space="preserve">E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limLow>
                                  <m:e>
                                    <m:r>
                                      <m:t xml:space="preserve">ε</m:t>
                                    </m:r>
                                  </m:e>
                                  <m:li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~</m:t>
                                    </m:r>
                                  </m:lim>
                                </m:limLow>
                              </m:e>
                            </m:d>
                            <m:r>
                              <m:t xml:space="preserve">=</m:t>
                            </m:r>
                            <m:limLow>
                              <m:e>
                                <m:r>
                                  <m:t xml:space="preserve">0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  <m:r>
                              <m:rPr>
                                <m:lit/>
                                <m:nor/>
                              </m:rPr>
                              <m:t xml:space="preserve"> , </m:t>
                            </m:r>
                            <m:r>
                              <m:t xml:space="preserve">V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limLow>
                                  <m:e>
                                    <m:r>
                                      <m:t xml:space="preserve">ε</m:t>
                                    </m:r>
                                  </m:e>
                                  <m:li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~</m:t>
                                    </m:r>
                                  </m:lim>
                                </m:limLow>
                              </m:e>
                            </m:d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e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limLow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  <m:limLow>
                              <m:e>
                                <m:r>
                                  <m:t xml:space="preserve">b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</m:e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limLow>
                              <m:e>
                                <m:r>
                                  <m:t xml:space="preserve">e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  <m:r>
                              <m:t xml:space="preserve">=</m:t>
                            </m:r>
                            <m:limLow>
                              <m:e>
                                <m:r>
                                  <m:t xml:space="preserve">Y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  <m:r>
                              <m:t xml:space="preserve">−</m:t>
                            </m:r>
                            <m:limLow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  <m:r>
                              <m:rPr>
                                <m:lit/>
                                <m:nor/>
                              </m:rPr>
                              <m:t xml:space="preserve">  and </m:t>
                            </m:r>
                            <m:limLow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  <m:limLow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sSub>
                                      <m:e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nary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e>
                            </m:d>
                          </m:e>
                          <m:e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a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limLow>
                                  <m:e>
                                    <m:r>
                                      <m:t xml:space="preserve">b</m:t>
                                    </m:r>
                                  </m:e>
                                  <m:li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~</m:t>
                                    </m:r>
                                  </m:lim>
                                </m:limLow>
                              </m:e>
                            </m:d>
                            <m:r>
                              <m:t xml:space="preserve">=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'</m:t>
                                        </m:r>
                                      </m:sup>
                                    </m:sSup>
                                    <m:r>
                                      <m:t xml:space="preserve">X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  <m:e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</m:eqAr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limLow>
                      <m:e>
                        <m:r>
                          <m:t xml:space="preserve">b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  and  </m:t>
                    </m:r>
                    <m:r>
                      <m:t xml:space="preserve">V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limLow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Var</m:t>
                    </m:r>
                    <m:d>
                      <m:dPr>
                        <m:begChr m:val="("/>
                        <m:endChr m:val=")"/>
                      </m:dPr>
                      <m:e>
                        <m:limLow>
                          <m:e>
                            <m:r>
                              <m:t xml:space="preserve">b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</m:e>
                    </m:d>
                    <m:limLow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limLow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limLow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Least Squares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1765440" y="1752480"/>
                <a:ext cx="142236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ANOVA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4" name=""/>
          <p:cNvGraphicFramePr/>
          <p:nvPr/>
        </p:nvGraphicFramePr>
        <p:xfrm>
          <a:off x="1066680" y="2286000"/>
          <a:ext cx="8498160" cy="4013280"/>
        </p:xfrm>
        <a:graphic>
          <a:graphicData uri="http://schemas.openxmlformats.org/drawingml/2006/table">
            <a:tbl>
              <a:tblPr/>
              <a:tblGrid>
                <a:gridCol w="1814760"/>
                <a:gridCol w="1427040"/>
                <a:gridCol w="1824120"/>
                <a:gridCol w="1716120"/>
                <a:gridCol w="1716120"/>
              </a:tblGrid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905120" y="3048120"/>
                <a:ext cx="33156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600200" y="3733920"/>
                <a:ext cx="99540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g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1371600" y="4419720"/>
                <a:ext cx="140508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ack of fi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447920" y="5105520"/>
                <a:ext cx="132876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ure erro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676520" y="5791320"/>
                <a:ext cx="74124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ota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600200" y="2438280"/>
                <a:ext cx="94464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ourc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3274920" y="2438280"/>
                <a:ext cx="38268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4724280" y="2438280"/>
                <a:ext cx="40824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3352680" y="3048120"/>
                <a:ext cx="23040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3124080" y="3733920"/>
                <a:ext cx="6908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2895480" y="4419720"/>
                <a:ext cx="122724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3352680" y="5029200"/>
                <a:ext cx="3319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352680" y="5803920"/>
                <a:ext cx="25560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4267080" y="3048120"/>
                <a:ext cx="168444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S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n</m:t>
                    </m:r>
                    <m:s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4267080" y="3581280"/>
                <a:ext cx="148284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g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  <m:e>
                        <m:limLow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−</m:t>
                        </m:r>
                        <m:r>
                          <m:t xml:space="preserve">n</m:t>
                        </m:r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4343400" y="4419720"/>
                <a:ext cx="112248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f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4343400" y="5051520"/>
                <a:ext cx="94464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4495680" y="5715000"/>
                <a:ext cx="58752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limLow>
                      <m:e>
                        <m:r>
                          <m:t xml:space="preserve">Y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6400800" y="2438280"/>
                <a:ext cx="534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5943600" y="3733920"/>
                <a:ext cx="163368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Reg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6095880" y="4419720"/>
                <a:ext cx="122580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f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6095880" y="5105520"/>
                <a:ext cx="104616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7918560" y="3352680"/>
                <a:ext cx="122544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Reg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7848720" y="4724280"/>
                <a:ext cx="117468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Re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7467480" y="3124080"/>
                <a:ext cx="38412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7467480" y="4495680"/>
                <a:ext cx="38412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Least Squares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1447920" y="1676520"/>
                <a:ext cx="431784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g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num>
                      <m:den>
                        <m:limLow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373040" y="2819520"/>
                <a:ext cx="601848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is a measure of the usefulness of the terms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other than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in the model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347840" y="3632040"/>
                <a:ext cx="779616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It is impossible for 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to actually attain 1, if pure error exist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So, max 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is suggested for justificatio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397160" y="4470480"/>
                <a:ext cx="728964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However, if there is no pure error, 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can be exaggerate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Therefore, an adjustment of 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is neede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3049560" y="304920"/>
                <a:ext cx="15987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djusted 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838080" y="1147680"/>
                <a:ext cx="5923080" cy="388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limLow>
                                  <m:e>
                                    <m:r>
                                      <m:t xml:space="preserve">b</m:t>
                                    </m:r>
                                  </m:e>
                                  <m:li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~</m:t>
                                    </m:r>
                                  </m:lim>
                                </m:limLow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limLow>
                              <m:e>
                                <m:r>
                                  <m:t xml:space="preserve">Y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limLow>
                                  <m:e>
                                    <m:r>
                                      <m:t xml:space="preserve">Y</m:t>
                                    </m:r>
                                  </m:e>
                                  <m:li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~</m:t>
                                    </m:r>
                                  </m:lim>
                                </m:limLow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limLow>
                              <m:e>
                                <m:r>
                                  <m:t xml:space="preserve">Y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SS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TSS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SS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limLow>
                              <m:e>
                                <m:r>
                                  <m:t xml:space="preserve">Y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−</m:t>
                        </m:r>
                        <m:sSup>
                          <m:e>
                            <m:limLow>
                              <m:e>
                                <m:r>
                                  <m:t xml:space="preserve">b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esidual</m:t>
                        </m:r>
                        <m:r>
                          <m:rPr>
                            <m:lit/>
                            <m:nor/>
                          </m:rPr>
                          <m:t xml:space="preserve"> S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CTSS</m:t>
                        </m:r>
                        <m:r>
                          <m:t xml:space="preserve">=</m:t>
                        </m:r>
                        <m:sSup>
                          <m:e>
                            <m:limLow>
                              <m:e>
                                <m:r>
                                  <m:t xml:space="preserve">Y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−</m:t>
                        </m:r>
                        <m:r>
                          <m:t xml:space="preserve">n</m:t>
                        </m:r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rrected</m:t>
                        </m:r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  <m:r>
                          <m:rPr>
                            <m:lit/>
                            <m:nor/>
                          </m:rPr>
                          <m:t xml:space="preserve"> SS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he adjusted 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is</m:t>
                        </m:r>
                      </m:e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SS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</m:sub>
                            </m:s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</m:den>
                            </m:f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CTSS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</m:den>
                            </m:f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6019920" y="5931000"/>
                <a:ext cx="213336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中央統研所</m:t>
                    </m:r>
                    <m:r>
                      <m:rPr>
                        <m:lit/>
                        <m:nor/>
                      </m:rPr>
                      <m:t xml:space="preserve">    2003/09/09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416320" y="380880"/>
                <a:ext cx="39081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east Squares Properties-mor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279360" y="914400"/>
                <a:ext cx="7469280" cy="502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ssume futher that </m:t>
                        </m:r>
                        <m:limLow>
                          <m:e>
                            <m:r>
                              <m:t xml:space="preserve">ε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limLow>
                          <m:e>
                            <m:r>
                              <m:t xml:space="preserve">0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I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Lack of fit tes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f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</m:den>
                            </m:f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-p-n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e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F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est</m:t>
                        </m:r>
                        <m:r>
                          <m:rPr>
                            <m:lit/>
                            <m:nor/>
                          </m:rPr>
                          <m:t xml:space="preserve"> of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⋯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eg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</m:den>
                            </m:f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jection of 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based on the F-test does not necessarily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mean the regression  model is useful for predictive purpos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F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6019920" y="5931000"/>
                <a:ext cx="213336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中央統研所</m:t>
                    </m:r>
                    <m:r>
                      <m:rPr>
                        <m:lit/>
                        <m:nor/>
                      </m:rPr>
                      <m:t xml:space="preserve">    2003/09/09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04920" y="533520"/>
                <a:ext cx="8256600" cy="556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eqArr>
                          <m:e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100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-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% 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  for E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|</m:t>
                            </m:r>
                            <m:limLow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is 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</m:eqAr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±</m:t>
                    </m:r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S</m:t>
                    </m:r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limLow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'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limLow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</m:e>
                    </m:rad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limLow>
                      <m:e>
                        <m:r>
                          <m:t xml:space="preserve">b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r>
                      <m:t xml:space="preserve">(</m:t>
                    </m:r>
                    <m:limLow>
                      <m:e>
                        <m:r>
                          <m:t xml:space="preserve">β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 ,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where </m:t>
                    </m:r>
                    <m:limLow>
                      <m:e>
                        <m:r>
                          <m:t xml:space="preserve">b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An individual   100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-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% confidence region for </m:t>
                    </m:r>
                    <m:limLow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 is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±</m:t>
                    </m:r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s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A joint 100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-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% confidence region for </m:t>
                    </m:r>
                    <m:limLow>
                      <m:e>
                        <m:r>
                          <m:t xml:space="preserve">β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 is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(</m:t>
                    </m:r>
                    <m:limLow>
                      <m:e>
                        <m:r>
                          <m:t xml:space="preserve">β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 -</m:t>
                    </m:r>
                    <m:limLow>
                      <m:e>
                        <m:r>
                          <m:t xml:space="preserve">b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(</m:t>
                    </m:r>
                    <m:limLow>
                      <m:e>
                        <m:r>
                          <m:t xml:space="preserve">β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t xml:space="preserve">−</m:t>
                    </m:r>
                    <m:limLow>
                      <m:e>
                        <m:r>
                          <m:t xml:space="preserve">b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t xml:space="preserve">)</m:t>
                    </m:r>
                    <m:r>
                      <m:t xml:space="preserve">≤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p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--Scheffe limits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A  more conservative 100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-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%  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for </m:t>
                    </m:r>
                    <m:limLow>
                      <m:e>
                        <m:r>
                          <m:t xml:space="preserve">β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 is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±</m:t>
                    </m:r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p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s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,  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,2,</m:t>
                    </m:r>
                    <m:r>
                      <m:t xml:space="preserve">⋯</m:t>
                    </m:r>
                    <m:r>
                      <m:rPr>
                        <m:lit/>
                        <m:nor/>
                      </m:rPr>
                      <m:t xml:space="preserve">,p ---Bonferroni limit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248520" y="6083280"/>
                <a:ext cx="213336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中央統研所</m:t>
                    </m:r>
                    <m:r>
                      <m:rPr>
                        <m:lit/>
                        <m:nor/>
                      </m:rPr>
                      <m:t xml:space="preserve">    2003/09/09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at</cp:lastModifiedBy>
  <dcterms:modified xsi:type="dcterms:W3CDTF">2003-10-13T01:41:59Z</dcterms:modified>
  <cp:revision>3</cp:revision>
  <dc:subject/>
  <dc:title>PowerPoint Presentation</dc:title>
</cp:coreProperties>
</file>