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CF95-6012-4F88-B005-D97403FF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E97F-EFD7-4C6A-ACBB-D9696753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1355-6340-4B35-AC6C-8E944E9A6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6498-468A-4A69-A116-718DF67FC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AFBD-938B-4D5A-9189-F5480D73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E33D-3A96-429F-BCD5-F02057F8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5EE1-52E4-47DB-B0A7-44176EAF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7338-845A-424C-8466-EE0A47E1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729E-77A8-4D6E-9ABB-A1D1764A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390E-86F1-4891-B998-AC083907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FC9A-8A4B-4CF4-B905-F88C25EC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3F86-C1A3-4A4D-B1C2-E10CB285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5799-8609-4F9E-9891-267EE7D762EF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5  General Linear Regress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133720" y="1981080"/>
                <a:ext cx="5232240" cy="340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X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r>
                              <m:t xml:space="preserve">ε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 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: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vector of observation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X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matrix of known for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:</m:t>
                        </m:r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vector of parameter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limLow>
                          <m:e>
                            <m:r>
                              <m:t xml:space="preserve">ε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: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vector of error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   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r>
                                  <m:t xml:space="preserve">ε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0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 ,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r>
                                  <m:t xml:space="preserve">ε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onfidence Intervals v.s. Reg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95280"/>
            <a:ext cx="8001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ote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. The area of Scheffe limits is less than that of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ferroni limits for the same          .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( Fig. 5.1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he shape of the Scheffe CR depends on the var-cov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 of       .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( Fig. 5.2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638680" y="1905120"/>
                <a:ext cx="68580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276720" y="2971800"/>
                <a:ext cx="242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6172200" y="60958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.I. v.s. C.R. ---mo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72200" y="62485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295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55600" y="1295280"/>
                <a:ext cx="568800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e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219320" y="1981080"/>
                <a:ext cx="5182920" cy="22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me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±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a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ts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⋯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p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19320" y="4419720"/>
                <a:ext cx="5790960" cy="17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oreover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cheff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p/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⋯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p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914400" y="457200"/>
                <a:ext cx="762012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termina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rrelat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tri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(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916200" y="175248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676520" y="1752480"/>
                <a:ext cx="4647960" cy="15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t xml:space="preserve">Γ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066680" y="3352680"/>
                <a:ext cx="6934320" cy="26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uncorrelated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ow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rrelated</m:t>
                        </m:r>
                        <m:r>
                          <m:t xml:space="preserve"> </m:t>
                        </m:r>
                        <m:r>
                          <m:t xml:space="preserve">?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i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quires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Γ</m:t>
                                    </m:r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r>
                              <m:t xml:space="preserve">πp</m:t>
                            </m:r>
                          </m:den>
                        </m:f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6172200" y="62485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72200" y="62485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480" y="5335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ot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600200" y="990720"/>
                <a:ext cx="3124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3" name=""/>
          <p:cNvGrpSpPr/>
          <p:nvPr/>
        </p:nvGrpSpPr>
        <p:grpSpPr>
          <a:xfrm>
            <a:off x="1295280" y="1752480"/>
            <a:ext cx="6781680" cy="928440"/>
            <a:chOff x="1295280" y="1752480"/>
            <a:chExt cx="6781680" cy="928440"/>
          </a:xfrm>
        </p:grpSpPr>
        <p:sp>
          <p:nvSpPr>
            <p:cNvPr id="114" name=""/>
            <p:cNvSpPr/>
            <p:nvPr/>
          </p:nvSpPr>
          <p:spPr>
            <a:xfrm>
              <a:off x="1295280" y="214776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61960" y="17665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1676160" y="1766520"/>
                  <a:ext cx="28116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1371240" y="2300040"/>
                  <a:ext cx="91440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2742840" y="1766520"/>
                  <a:ext cx="20484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3581280" y="1766520"/>
                  <a:ext cx="29196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5443200" y="1766520"/>
                  <a:ext cx="29232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4543200" y="1752480"/>
                  <a:ext cx="26352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7270560" y="1752480"/>
                  <a:ext cx="29376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6372000" y="1752480"/>
                  <a:ext cx="26352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" name=""/>
                <p:cNvSpPr txBox="1"/>
                <p:nvPr/>
              </p:nvSpPr>
              <p:spPr>
                <a:xfrm>
                  <a:off x="2626920" y="2209680"/>
                  <a:ext cx="43848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9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7197480" y="2209680"/>
                  <a:ext cx="43992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8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3479400" y="2209680"/>
                  <a:ext cx="40968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9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4455720" y="2209680"/>
                  <a:ext cx="43848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8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5370120" y="2209680"/>
                  <a:ext cx="43848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8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6283080" y="2209680"/>
                  <a:ext cx="43992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84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295280" y="3276720"/>
                <a:ext cx="6392880" cy="21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ari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tt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iven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eneral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tate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bove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→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  <m:r>
                          <m:t xml:space="preserve"> 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I v.s. CR---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62485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03360" y="1143000"/>
                <a:ext cx="8397720" cy="351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ea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ta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2</m:t>
                        </m:r>
                      </m:e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%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cheff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llips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ver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bou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%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ctangl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172200" y="62485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I v.s. CR---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85800" y="1219320"/>
                <a:ext cx="792468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ea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ta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e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97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86%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llipsoi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ver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nl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bout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%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ctangula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loc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85800" y="3276720"/>
                <a:ext cx="8153280" cy="19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W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Bonus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ha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alu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onferron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n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llipsoid</m:t>
                        </m:r>
                        <m:r>
                          <m:t xml:space="preserve"> </m:t>
                        </m:r>
                        <m:r>
                          <m:t xml:space="preserve">?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figure5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533520"/>
            <a:ext cx="9144000" cy="50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figure5.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96920"/>
            <a:ext cx="9144000" cy="66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figure5.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838080"/>
            <a:ext cx="914400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eneral Linear Reg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044800" y="1295280"/>
                <a:ext cx="5487840" cy="502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ce </m:t>
                        </m:r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r>
                                  <m:t xml:space="preserve">ε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0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 ,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r>
                          <m:t xml:space="preserve">=</m:t>
                        </m:r>
                        <m:r>
                          <m:t xml:space="preserve">X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limLow>
                          <m:e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ε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(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r>
                          <m:t xml:space="preserve">X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r>
                          <m:t xml:space="preserve">X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limLow>
                          <m:e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X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X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X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normarl equations 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)</m:t>
                        </m:r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nonsingular, then the LSE of 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282680" y="1079640"/>
                <a:ext cx="6732720" cy="34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e: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f 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 iid N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,  then </m:t>
                        </m:r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is MLE of 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f 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 iid DEXP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σ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,  then the MLE of 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the valne minimizing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,  </m:t>
                        </m:r>
                        <m:r>
                          <m:rPr>
                            <m:lit/>
                            <m:nor/>
                          </m:rPr>
                          <m:t xml:space="preserve">not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DEXP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σ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  then its pdf 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σ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z</m:t>
                                </m:r>
                              </m:e>
                            </m:d>
                            <m:r>
                              <m:t xml:space="preserve">σ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,  -</m:t>
                        </m:r>
                        <m:r>
                          <m:t xml:space="preserve">∞</m:t>
                        </m:r>
                        <m:r>
                          <m:t xml:space="preserve">&lt;</m:t>
                        </m:r>
                        <m:r>
                          <m:t xml:space="preserve">z</m:t>
                        </m:r>
                        <m:r>
                          <m:t xml:space="preserve">&lt;</m:t>
                        </m:r>
                        <m:r>
                          <m:t xml:space="preserve">∞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east Squares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295280" y="2209680"/>
                <a:ext cx="7112160" cy="287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ssume  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limLow>
                                  <m:e>
                                    <m:r>
                                      <m:t xml:space="preserve">ε</m:t>
                                    </m:r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</m:e>
                            </m:d>
                            <m:r>
                              <m:t xml:space="preserve">=</m:t>
                            </m:r>
                            <m:limLow>
                              <m:e>
                                <m:r>
                                  <m:t xml:space="preserve">0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rPr>
                                <m:lit/>
                                <m:nor/>
                              </m:rPr>
                              <m:t xml:space="preserve"> , </m:t>
                            </m:r>
                            <m:r>
                              <m:t xml:space="preserve">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limLow>
                                  <m:e>
                                    <m:r>
                                      <m:t xml:space="preserve">ε</m:t>
                                    </m:r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</m:e>
                            </m:d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e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limLow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limLow>
                              <m:e>
                                <m:r>
                                  <m:t xml:space="preserve">b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limLow>
                              <m:e>
                                <m:r>
                                  <m:t xml:space="preserve">e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=</m:t>
                            </m:r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−</m:t>
                            </m:r>
                            <m:limLow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rPr>
                                <m:lit/>
                                <m:nor/>
                              </m:rPr>
                              <m:t xml:space="preserve">  and </m:t>
                            </m:r>
                            <m:limLow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limLow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limLow>
                                  <m:e>
                                    <m:r>
                                      <m:t xml:space="preserve">b</m:t>
                                    </m:r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</m:e>
                            </m:d>
                            <m:r>
                              <m:t xml:space="preserve">=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p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  <m:e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limLow>
                      <m:e>
                        <m:r>
                          <m:t xml:space="preserve">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 and  </m:t>
                    </m:r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limLow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</m:d>
                    <m:limLow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limLow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limLow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east Squares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765440" y="1752480"/>
                <a:ext cx="14223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ANOV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4" name=""/>
          <p:cNvGraphicFramePr/>
          <p:nvPr/>
        </p:nvGraphicFramePr>
        <p:xfrm>
          <a:off x="1066680" y="2286000"/>
          <a:ext cx="8498160" cy="4013280"/>
        </p:xfrm>
        <a:graphic>
          <a:graphicData uri="http://schemas.openxmlformats.org/drawingml/2006/table">
            <a:tbl>
              <a:tblPr/>
              <a:tblGrid>
                <a:gridCol w="1814760"/>
                <a:gridCol w="1427040"/>
                <a:gridCol w="1824120"/>
                <a:gridCol w="1716120"/>
                <a:gridCol w="171612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905120" y="3048120"/>
                <a:ext cx="33156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600200" y="3733920"/>
                <a:ext cx="99540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g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371600" y="4419720"/>
                <a:ext cx="140508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ack of fi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447920" y="5105520"/>
                <a:ext cx="132876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 err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676520" y="5791320"/>
                <a:ext cx="74124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ota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600200" y="2438280"/>
                <a:ext cx="9446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urc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274920" y="2438280"/>
                <a:ext cx="3826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724280" y="2438280"/>
                <a:ext cx="4082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352680" y="3048120"/>
                <a:ext cx="23040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124080" y="3733920"/>
                <a:ext cx="6908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895480" y="4419720"/>
                <a:ext cx="12272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352680" y="5029200"/>
                <a:ext cx="3319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352680" y="5803920"/>
                <a:ext cx="25560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267080" y="3048120"/>
                <a:ext cx="16844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n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267080" y="3581280"/>
                <a:ext cx="148284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g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>
                        <m:limLow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r>
                          <m:t xml:space="preserve">n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343400" y="4419720"/>
                <a:ext cx="11224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f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343400" y="5051520"/>
                <a:ext cx="9446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495680" y="5715000"/>
                <a:ext cx="5875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limLow>
                      <m:e>
                        <m:r>
                          <m:t xml:space="preserve">Y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400800" y="2438280"/>
                <a:ext cx="534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943600" y="3733920"/>
                <a:ext cx="163368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eg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095880" y="4419720"/>
                <a:ext cx="12258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f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095880" y="5105520"/>
                <a:ext cx="10461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918560" y="3352680"/>
                <a:ext cx="122544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eg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7848720" y="4724280"/>
                <a:ext cx="117468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e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467480" y="3124080"/>
                <a:ext cx="3841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467480" y="4495680"/>
                <a:ext cx="3841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east Squares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447920" y="1676520"/>
                <a:ext cx="431784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g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num>
                      <m:den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373040" y="2819520"/>
                <a:ext cx="60184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is a measure of the usefulness of the terms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other than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in the mode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347840" y="3632040"/>
                <a:ext cx="77961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It is impossible for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to actually attain 1, if pure error exist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So, max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is suggested for justifica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397160" y="4470480"/>
                <a:ext cx="72896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However, if there is no pure error,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can be exaggerate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Therefore, an adjustment of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is neede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49560" y="304920"/>
                <a:ext cx="1598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djusted 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838080" y="1147680"/>
                <a:ext cx="5923080" cy="388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limLow>
                                  <m:e>
                                    <m:r>
                                      <m:t xml:space="preserve">b</m:t>
                                    </m:r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limLow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SS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TSS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SS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sSup>
                          <m:e>
                            <m:limLow>
                              <m:e>
                                <m:r>
                                  <m:t xml:space="preserve">b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sidual</m:t>
                        </m:r>
                        <m:r>
                          <m:rPr>
                            <m:lit/>
                            <m:nor/>
                          </m:rPr>
                          <m:t xml:space="preserve"> S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CTSS</m:t>
                        </m:r>
                        <m:r>
                          <m:t xml:space="preserve">=</m:t>
                        </m:r>
                        <m:sSup>
                          <m:e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r>
                          <m:t xml:space="preserve">n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rrected</m:t>
                        </m:r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rPr>
                            <m:lit/>
                            <m:nor/>
                          </m:rPr>
                          <m:t xml:space="preserve"> SS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he adjusted 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is</m:t>
                        </m:r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SS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</m:den>
                            </m:f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CTSS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</m:den>
                            </m:f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019920" y="5931000"/>
                <a:ext cx="21333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中央統研所</m:t>
                    </m:r>
                    <m:r>
                      <m:rPr>
                        <m:lit/>
                        <m:nor/>
                      </m:rPr>
                      <m:t xml:space="preserve">    2003/09/0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416320" y="380880"/>
                <a:ext cx="39081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east Squares Properties-mor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79360" y="914400"/>
                <a:ext cx="7469280" cy="502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ssume futher that </m:t>
                        </m:r>
                        <m:limLow>
                          <m:e>
                            <m:r>
                              <m:t xml:space="preserve">ε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limLow>
                          <m:e>
                            <m:r>
                              <m:t xml:space="preserve">0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ack of fit tes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f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-p-n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e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est</m:t>
                        </m:r>
                        <m:r>
                          <m:rPr>
                            <m:lit/>
                            <m:nor/>
                          </m:rPr>
                          <m:t xml:space="preserve"> of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⋯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g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</m:den>
                            </m:f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jection of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based on the F-test does not necessarily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mean the regression  model is useful for predictive purpos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F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019920" y="5931000"/>
                <a:ext cx="21333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中央統研所</m:t>
                    </m:r>
                    <m:r>
                      <m:rPr>
                        <m:lit/>
                        <m:nor/>
                      </m:rPr>
                      <m:t xml:space="preserve">    2003/09/0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04920" y="533520"/>
                <a:ext cx="8256600" cy="556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00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-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 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  for E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limLow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is 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S</m:t>
                    </m:r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limLow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'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limLow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</m:rad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limLow>
                      <m:e>
                        <m:r>
                          <m:t xml:space="preserve">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limLow>
                      <m:e>
                        <m:r>
                          <m:t xml:space="preserve">β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,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where </m:t>
                    </m:r>
                    <m:limLow>
                      <m:e>
                        <m:r>
                          <m:t xml:space="preserve">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An individual   10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-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% confidence region for </m:t>
                    </m:r>
                    <m:limLow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is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 joint 10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-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% confidence region for </m:t>
                    </m:r>
                    <m:limLow>
                      <m:e>
                        <m:r>
                          <m:t xml:space="preserve">β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is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(</m:t>
                    </m:r>
                    <m:limLow>
                      <m:e>
                        <m:r>
                          <m:t xml:space="preserve">β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-</m:t>
                    </m:r>
                    <m:limLow>
                      <m:e>
                        <m:r>
                          <m:t xml:space="preserve">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limLow>
                      <m:e>
                        <m:r>
                          <m:t xml:space="preserve">β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−</m:t>
                    </m:r>
                    <m:limLow>
                      <m:e>
                        <m:r>
                          <m:t xml:space="preserve">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)</m:t>
                    </m:r>
                    <m:r>
                      <m:t xml:space="preserve">≤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--Scheffe limits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A  more conservative 10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-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%  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for </m:t>
                    </m:r>
                    <m:limLow>
                      <m:e>
                        <m:r>
                          <m:t xml:space="preserve">β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is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p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,  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2,</m:t>
                    </m:r>
                    <m:r>
                      <m:t xml:space="preserve">⋯</m:t>
                    </m:r>
                    <m:r>
                      <m:rPr>
                        <m:lit/>
                        <m:nor/>
                      </m:rPr>
                      <m:t xml:space="preserve">,p ---Bonferroni limit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248520" y="6083280"/>
                <a:ext cx="21333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中央統研所</m:t>
                    </m:r>
                    <m:r>
                      <m:rPr>
                        <m:lit/>
                        <m:nor/>
                      </m:rPr>
                      <m:t xml:space="preserve">    2003/09/0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at</cp:lastModifiedBy>
  <dcterms:modified xsi:type="dcterms:W3CDTF">2003-10-13T01:41:59Z</dcterms:modified>
  <cp:revision>3</cp:revision>
  <dc:subject/>
  <dc:title>PowerPoint Presentation</dc:title>
</cp:coreProperties>
</file>