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5AF-C99E-40FF-9975-F6122597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691-6222-47A5-9DBA-7AA2FD18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AF5-D1BA-4F74-8AF9-1BC05D03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72F-813E-491F-9873-3BF9DCE3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561-F267-4A8B-8637-BB8A51C7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F99-D7CF-4FB6-A5D6-367BBE9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410-8300-4F63-8E3F-8D9B5D3D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AF5-158E-489D-8126-A1BC5364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09B-344E-495E-8C61-A56E91C6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E01-D84F-4180-8495-E3BB623D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383-E455-4740-A1B2-1CBC166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38F-0981-4CEC-AE25-3752A06F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D9D-840F-4EDF-BE23-4735903D327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4 Regression in Matrix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895480" y="1752480"/>
                <a:ext cx="2613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limLow>
                      <m:e>
                        <m:r>
                          <m:t xml:space="preserve">ε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2590920"/>
                <a:ext cx="1627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bserv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048120" y="2666880"/>
                <a:ext cx="124596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rix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di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b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2743200"/>
                <a:ext cx="1423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mete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400800" y="2666880"/>
                <a:ext cx="1297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 flipV="1">
            <a:off x="2133720" y="20574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733920" y="21333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72000" y="2209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562720" y="2209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4038480"/>
                <a:ext cx="553536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limLow>
                      <m:e>
                        <m:r>
                          <m:t xml:space="preserve">ε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58800" y="1244520"/>
                <a:ext cx="5513400" cy="317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alignl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60640" y="482760"/>
                <a:ext cx="4721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ance -Covariance in Matrix Te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30040" y="45720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62120" y="1116000"/>
                <a:ext cx="6046560" cy="35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304920"/>
                <a:ext cx="3303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 - Cov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4840" y="966960"/>
                <a:ext cx="7945560" cy="42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  for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 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0    for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For the steam data ,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2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t can be shown that  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is a bivarivate normal </m:t>
                    </m:r>
                    <m:r>
                      <m:rPr>
                        <m:lit/>
                        <m:nor/>
                      </m:rPr>
                      <m:t xml:space="preserve">   random vecto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,  a joint inference on 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   based on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is attainabl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38080" y="762120"/>
                <a:ext cx="58658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limLow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,where   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219320"/>
                <a:ext cx="675828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Sup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bSup>
                                        </m:e>
                                      </m:nary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normal equation i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,</m:t>
                    </m:r>
                    <m:r>
                      <m:rPr>
                        <m:lit/>
                        <m:nor/>
                      </m:rPr>
                      <m:t xml:space="preserve">       where  </m:t>
                    </m:r>
                    <m:limLow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808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1523880"/>
                <a:ext cx="54626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exists,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808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057400" y="1447920"/>
                <a:ext cx="4721400" cy="46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531720"/>
                <a:ext cx="7748640" cy="564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1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1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32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8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2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6794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139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6794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1398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8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2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379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9848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465280" y="380880"/>
                <a:ext cx="352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OVA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774720"/>
                <a:ext cx="6500880" cy="556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65280" y="380880"/>
                <a:ext cx="352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OVA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143000" y="838080"/>
                <a:ext cx="62485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OVA TAB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                    df            SS                        MS</m:t>
                        </m:r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2           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dual                n-2        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p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                        n                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30040" y="370836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62120" y="4164120"/>
                <a:ext cx="70135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the explained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model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fit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o ,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measure the extr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 removed by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n  the  model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us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46120" y="635040"/>
                <a:ext cx="56149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steam data , SS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4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indicated in tab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0040" y="43164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14400" y="939960"/>
                <a:ext cx="7010280" cy="46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f>
                          <m:fPr>
                            <m:type m:val="lin"/>
                          </m:fPr>
                          <m:num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f>
                          <m:fPr>
                            <m:type m:val="lin"/>
                          </m:fPr>
                          <m:num>
                            <m:limLow>
                              <m:e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is a symmetric ,idempotent  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matri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limLow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and  </m:t>
                        </m:r>
                        <m:limLow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t</cp:lastModifiedBy>
  <dcterms:modified xsi:type="dcterms:W3CDTF">2003-10-07T01:10:17Z</dcterms:modified>
  <cp:revision>8</cp:revision>
  <dc:subject/>
  <dc:title>PowerPoint Presentation</dc:title>
</cp:coreProperties>
</file>