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CBB-96EF-4EA9-A329-13EEAF2B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738-E84F-492C-8743-46C4141A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663-7B82-4F67-A000-5EEF58B9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BE74-5836-47C2-BA31-6570D107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377-D02F-4B71-85C5-0B0A32DE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37B-B7D8-4D3A-A3E9-03C8E5BA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DEE-27E5-4825-A8C6-2156721E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170-66A8-4EA5-BB45-6F544762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83C-042D-4063-9715-54DEDEB2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25A-29D1-459D-9F6F-C3B887D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DA5-C7E1-4021-B97D-D76AD7A6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955-4359-4AB6-A4B4-1C4378FB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5869-1F8A-4AC2-8156-7E6A18170E3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4 Regression in Matrix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895480" y="1752480"/>
                <a:ext cx="26132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limLow>
                      <m:e>
                        <m:r>
                          <m:t xml:space="preserve">ε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43000" y="2590920"/>
                <a:ext cx="1627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ector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bserv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048120" y="2666880"/>
                <a:ext cx="124596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trix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di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bl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2743200"/>
                <a:ext cx="14238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ector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mete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400800" y="2666880"/>
                <a:ext cx="1297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ector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 flipV="1">
            <a:off x="2133720" y="20574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733920" y="21333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572000" y="22096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562720" y="22096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4038480"/>
                <a:ext cx="553536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limLow>
                      <m:e>
                        <m:r>
                          <m:t xml:space="preserve">ε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58800" y="1244520"/>
                <a:ext cx="5513400" cy="317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alignl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060640" y="482760"/>
                <a:ext cx="47210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ance -Covariance in Matrix Te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30040" y="457200"/>
                <a:ext cx="1065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62120" y="1116000"/>
                <a:ext cx="6046560" cy="35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590920" y="304920"/>
                <a:ext cx="33033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 - Cov in Matrix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04840" y="966960"/>
                <a:ext cx="7945560" cy="42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Cor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    for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             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0    for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For the steam data ,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2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2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t can be shown that   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is a bivarivate normal </m:t>
                    </m:r>
                    <m:r>
                      <m:rPr>
                        <m:lit/>
                        <m:nor/>
                      </m:rPr>
                      <m:t xml:space="preserve">   random vecto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,  a joint inference on  </m:t>
                    </m:r>
                    <m:limLow>
                      <m:e>
                        <m:r>
                          <m:t xml:space="preserve">β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rPr>
                        <m:lit/>
                        <m:nor/>
                      </m:rPr>
                      <m:t xml:space="preserve">   based on 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is attainabl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838080" y="762120"/>
                <a:ext cx="58658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limLow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,where   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808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gression in Matrix Term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1219320"/>
                <a:ext cx="675828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mr>
                                  <m:mr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Sup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bSup>
                                        </m:e>
                                      </m:nary>
                                    </m:e>
                                  </m:mr>
                                </m:m>
                              </m:e>
                            </m:d>
                          </m:e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⋯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⋮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mr>
                                  <m:mr>
                                    <m:e>
                                      <m:nary>
                                        <m:naryPr>
                                          <m:chr m:val="∑"/>
                                          <m:subHide m:val="1"/>
                                          <m:supHide m:val="1"/>
                                        </m:naryPr>
                                        <m:sub/>
                                        <m:sup/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e>
                                      </m:nary>
                                    </m:e>
                                  </m:mr>
                                </m:m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normal equation is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{</m:t>
                            </m:r>
                            <m:r>
                              <m:t xml:space="preserve">X</m:t>
                            </m:r>
                          </m:e>
                        </m:eqAr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,</m:t>
                    </m:r>
                    <m:r>
                      <m:rPr>
                        <m:lit/>
                        <m:nor/>
                      </m:rPr>
                      <m:t xml:space="preserve">       where  </m:t>
                    </m:r>
                    <m:limLow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808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gression in Matrix Term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52480" y="1523880"/>
                <a:ext cx="546264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e>
                                  </m:nary>
                                </m:e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exists,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808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gression in Matrix Terms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057400" y="1447920"/>
                <a:ext cx="4721400" cy="46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09480" y="531720"/>
                <a:ext cx="7748640" cy="564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1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15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632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82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2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6794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1398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6794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7353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1398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82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2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379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79848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465280" y="380880"/>
                <a:ext cx="352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OVA in Matrix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14400" y="774720"/>
                <a:ext cx="6500880" cy="556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n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465280" y="380880"/>
                <a:ext cx="3529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OVA in Matrix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143000" y="838080"/>
                <a:ext cx="62485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OVA TABL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                    df            SS                        MS</m:t>
                        </m:r>
                      </m:e>
                      <m:e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2           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dual                n-2        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sSup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tal                        n                </m:t>
                        </m:r>
                        <m:sSup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30040" y="3708360"/>
                <a:ext cx="1065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62120" y="4164120"/>
                <a:ext cx="701352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is the explained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the model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fitt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o ,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measure the extr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 removed by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when  the  model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us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46120" y="635040"/>
                <a:ext cx="561492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steam data , SS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7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4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 indicated in table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30040" y="431640"/>
                <a:ext cx="1065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14400" y="939960"/>
                <a:ext cx="7010280" cy="462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f>
                          <m:fPr>
                            <m:type m:val="lin"/>
                          </m:fPr>
                          <m:num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f>
                          <m:fPr>
                            <m:type m:val="lin"/>
                          </m:fPr>
                          <m:num>
                            <m:limLow>
                              <m:e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is a symmetric ,idempotent  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matri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where </m:t>
                        </m:r>
                        <m:limLow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and  </m:t>
                        </m:r>
                        <m:limLow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10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t</cp:lastModifiedBy>
  <dcterms:modified xsi:type="dcterms:W3CDTF">2003-10-07T01:10:17Z</dcterms:modified>
  <cp:revision>8</cp:revision>
  <dc:subject/>
  <dc:title>PowerPoint Presentation</dc:title>
</cp:coreProperties>
</file>