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798-B1F4-4497-AD72-66EC4ACD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043-1330-4945-B662-96B2221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700-6C0C-406B-A621-55C7700F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958-4400-4D6E-B71D-5B2228D7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665-318F-43CC-B497-C66F5491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7F8-6802-48B2-9A8E-983838F9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069-A232-4E64-8A74-6545D0FD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028-C71E-4AB4-B79B-3C3C51B3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ACD-5F50-4D89-9EDE-BDA7848C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B08-6759-4D3C-B01D-6A168325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FA0-FC93-47C7-87B8-154EAC9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BF20-D4A4-403A-ADE1-14AE5DE7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F6A5-6EBA-4865-8E5A-E47CC732BAA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2666880" y="4648320"/>
            <a:ext cx="312840" cy="31248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480"/>
              <a:gd name="textAreaBottom" fmla="*/ 292320 h 31248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5" h="21600">
                <a:moveTo>
                  <a:pt x="3806" y="3794"/>
                </a:moveTo>
                <a:lnTo>
                  <a:pt x="17819" y="10800"/>
                </a:lnTo>
                <a:lnTo>
                  <a:pt x="3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828800" y="4572000"/>
            <a:ext cx="312840" cy="312840"/>
          </a:xfrm>
          <a:custGeom>
            <a:avLst/>
            <a:gdLst>
              <a:gd name="textAreaLeft" fmla="*/ 20160 w 312840"/>
              <a:gd name="textAreaRight" fmla="*/ 292680 w 312840"/>
              <a:gd name="textAreaTop" fmla="*/ 20160 h 312840"/>
              <a:gd name="textAreaBottom" fmla="*/ 2926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03T01:51:35Z</dcterms:modified>
  <cp:revision>39</cp:revision>
  <dc:subject/>
  <dc:title>PowerPoint 簡報</dc:title>
</cp:coreProperties>
</file>