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5D5-BC2B-4BF1-8D93-E491E1B3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30A-5606-46CA-A263-35C17059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C70-BC48-42C7-AC97-A6F59108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2A4-2614-4829-8457-E967419A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C7A-06E8-4091-B389-1901BC21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63B-0EA2-41B3-A590-4E03BD71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B99-38D5-4D2C-A174-B1300D7A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7E2-2849-470D-B47E-9B373AF4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107-0C6B-45DA-B8FB-AF201608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C3B-2527-455B-9663-7379283B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2DB-F937-41E8-B74A-FDCA4D2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352-604B-4BCA-A3B6-D65611A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5BB5-859C-45AA-90B8-42DD39A4A17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666880" y="4648320"/>
            <a:ext cx="312840" cy="31248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5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828800" y="4572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3T01:51:35Z</dcterms:modified>
  <cp:revision>39</cp:revision>
  <dc:subject/>
  <dc:title>PowerPoint 簡報</dc:title>
</cp:coreProperties>
</file>