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976-3BD7-42C4-86CE-01BA1157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662-5E05-44D5-A586-06D17197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042-6FBC-4FE7-8848-91940E80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99C-AA6C-4290-8947-4613713A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C23-B4FF-46C3-BD47-C8C6B33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FC0-70D6-41CF-80B7-C582B1E3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A48-8B4F-4A4F-A901-171892B7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7D0-5968-47AE-9FC4-3D96136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3AE-4421-4EDC-94F3-AB41F6BE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FBA-9143-4B32-A686-F74766C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CB4-D5F0-47F0-909A-8945671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2DC-85C3-433E-81A4-CC2E897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D77-7ED7-4993-BBA3-532AA8D408D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666880" y="4648320"/>
            <a:ext cx="312840" cy="31248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5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828800" y="4572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3T01:51:35Z</dcterms:modified>
  <cp:revision>39</cp:revision>
  <dc:subject/>
  <dc:title>PowerPoint 簡報</dc:title>
</cp:coreProperties>
</file>