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FF9-302A-443D-B3E9-7F50E3FB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1EE-B7E9-4828-966C-C32F1FCC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D27-C05A-4283-870D-2478EAE2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C8A-7FFE-403C-846A-ECB16A27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85D-6721-40DB-97DA-CF69426F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F76-59FC-4061-BEBD-5D43E64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CB4-2F02-4FD3-99AC-9AFC220A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6DE-194A-436C-B490-AE7D553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7FD-A4BE-479A-A0E2-516B3ACC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BB5-8DCD-40E9-84B9-F722FF8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D14-B82F-4CEB-A933-E04ED31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E29-2755-4875-B8F9-E3FD36E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9877-163E-42EA-9A2E-5E6E3619CA6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81280" y="457200"/>
                <a:ext cx="2667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al Topi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1295280"/>
                <a:ext cx="5824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Inference  on  response variab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terval estimation of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ion of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verse  regres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52388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e3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7924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85920" y="304920"/>
                <a:ext cx="505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</m:t>
                    </m:r>
                    <m:r>
                      <m:rPr>
                        <m:lit/>
                        <m:nor/>
                      </m:rPr>
                      <m:t xml:space="preserve"> On response variab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01880" y="1092240"/>
                <a:ext cx="284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2236680"/>
                <a:ext cx="4543560" cy="36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here 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is implies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33520" y="22860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98880" y="30492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 for 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990720"/>
                <a:ext cx="419256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,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52280"/>
                <a:ext cx="3786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760" y="655560"/>
                <a:ext cx="859320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eam data 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,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est 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1692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1692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8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A 95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            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98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85800" y="3962520"/>
                <a:ext cx="8332920" cy="24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 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982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est 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23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8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5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548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95480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9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 95%  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 for 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t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 is</m:t>
                    </m:r>
                    <m:r>
                      <m:rPr>
                        <m:lit/>
                        <m:nor/>
                      </m:rPr>
                      <m:t xml:space="preserve">      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22480" y="38088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914400"/>
                <a:ext cx="763272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,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82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st 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3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480</m:t>
                    </m:r>
                    <m:r>
                      <m:rPr>
                        <m:lit/>
                        <m:nor/>
                      </m:rPr>
                      <m:t xml:space="preserve">      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48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0</m:t>
                    </m:r>
                    <m:r>
                      <m:rPr>
                        <m:lit/>
                        <m:nor/>
                      </m:rPr>
                      <m:t xml:space="preserve">A 95%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162320"/>
                <a:ext cx="70754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loi of 95% confidence bands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s  f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ve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ame width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8600" y="41911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2666880" y="4648320"/>
            <a:ext cx="312840" cy="31248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5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19520" y="22860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ion of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57080" y="838080"/>
                <a:ext cx="8015400" cy="37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he new Y is 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iction of 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however,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o,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 prediction interval of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30400" y="4800600"/>
                <a:ext cx="67942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mean of q new Y observations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 associated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i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48006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70200" y="76320"/>
                <a:ext cx="3173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31920" y="887400"/>
                <a:ext cx="5460840" cy="51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tte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to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or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wish to predic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and 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an be obtained by solvin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where 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-2,1-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380880"/>
                <a:ext cx="4318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- 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24040" y="1547640"/>
                <a:ext cx="7570800" cy="39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th equation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duce to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P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s lead to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g</m:t>
                                        </m:r>
                                      </m:e>
                                    </m:d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udy of drug effect -dur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1828800" y="45720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re3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03T01:51:35Z</dcterms:modified>
  <cp:revision>39</cp:revision>
  <dc:subject/>
  <dc:title>PowerPoint 簡報</dc:title>
</cp:coreProperties>
</file>