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4E4-E3A2-4FCF-A447-FDD069BC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5B8-5B4B-44F2-ACFF-D4223EE9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351-2210-48BB-AE47-FCB6E2DF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FCF-1171-4110-8967-EBEA0E71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142-F16F-4633-815C-535F9E13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5D5-A3D1-4066-A4C0-D224527F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6E3-BD52-4AD4-A2BB-F5AEF4C7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275-1DDC-42D9-9D1D-CE60FFC3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897-FE24-4724-9442-3B1DC3A8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130-A8C7-42A1-BA2B-44E3DB33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FAA8-7A11-492F-9704-9DD19524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02E-AF67-4F3A-9DAD-B034A978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0558-7308-4A81-816E-92ECC647713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581280" y="457200"/>
                <a:ext cx="2667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cial Topi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1295280"/>
                <a:ext cx="58248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Inference  on  response variab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terval estimation of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diction of 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verse  regress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523880" y="380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figure3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0"/>
            <a:ext cx="79246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85920" y="304920"/>
                <a:ext cx="5052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erence</m:t>
                    </m:r>
                    <m:r>
                      <m:rPr>
                        <m:lit/>
                        <m:nor/>
                      </m:rPr>
                      <m:t xml:space="preserve"> On response variab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01880" y="1092240"/>
                <a:ext cx="2844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752480" y="2236680"/>
                <a:ext cx="4543560" cy="36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where  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this implies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33520" y="22860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98880" y="304920"/>
                <a:ext cx="2158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 for 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66680" y="990720"/>
                <a:ext cx="4192560" cy="30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orma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,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38280" y="152280"/>
                <a:ext cx="3786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20760" y="655560"/>
                <a:ext cx="8593200" cy="30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eam data n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,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4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est 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15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1692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1692</m:t>
                                </m:r>
                              </m:e>
                            </m:ra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80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A 95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             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98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8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85800" y="3962520"/>
                <a:ext cx="8332920" cy="24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eqAr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t 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9829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8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est 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23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28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15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2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548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s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95480</m:t>
                                    </m:r>
                                  </m:e>
                                </m:ra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9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 95%  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 for  {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eqAr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t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  is</m:t>
                    </m:r>
                    <m:r>
                      <m:rPr>
                        <m:lit/>
                        <m:nor/>
                      </m:rPr>
                      <m:t xml:space="preserve">      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922480" y="380880"/>
                <a:ext cx="241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85800" y="914400"/>
                <a:ext cx="7632720" cy="30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,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982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est 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3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6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0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5480</m:t>
                    </m:r>
                    <m:r>
                      <m:rPr>
                        <m:lit/>
                        <m:nor/>
                      </m:rPr>
                      <m:t xml:space="preserve">      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548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90</m:t>
                    </m:r>
                    <m:r>
                      <m:rPr>
                        <m:lit/>
                        <m:nor/>
                      </m:rPr>
                      <m:t xml:space="preserve">A 95%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43000" y="4162320"/>
                <a:ext cx="707544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loi of 95% confidence bands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r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s  for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have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same width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8600" y="419112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2666880" y="4648320"/>
            <a:ext cx="312840" cy="31248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480"/>
              <a:gd name="textAreaBottom" fmla="*/ 292320 h 31248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5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819520" y="228600"/>
                <a:ext cx="2871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diction of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57080" y="838080"/>
                <a:ext cx="8015400" cy="37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the new Y is 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ediction of 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however,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            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So,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% prediction interval of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30400" y="4800600"/>
                <a:ext cx="679428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mean of q new Y observations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  associated</m:t>
                        </m:r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is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2,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/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04920" y="48006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770200" y="76320"/>
                <a:ext cx="3173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31920" y="887400"/>
                <a:ext cx="5460840" cy="513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tted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to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or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wish to predic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and X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can be obtained by solvin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where t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-2,1-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/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438280" y="380880"/>
                <a:ext cx="4318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- 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24040" y="1547640"/>
                <a:ext cx="7570800" cy="391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th equation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duce to 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P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olutions lead to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g</m:t>
                            </m:r>
                            <m:r>
                              <m:t xml:space="preserve">±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s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^"/>
                                                      </m:accPr>
                                                      <m:e>
                                                        <m:r>
                                                          <m:t xml:space="preserve">X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g</m:t>
                                        </m:r>
                                      </m:e>
                                    </m:d>
                                    <m:r>
                                      <m:t xml:space="preserve">/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2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tudy of drug effect -dur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1828800" y="45720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ure3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0-03T01:51:35Z</dcterms:modified>
  <cp:revision>39</cp:revision>
  <dc:subject/>
  <dc:title>PowerPoint 簡報</dc:title>
</cp:coreProperties>
</file>