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46C-E71F-4829-A56C-223333A1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A83-237B-4BD3-AAA2-CC9AA97E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F08-3A3F-44D7-9F3E-341423B7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D89-D967-4DF5-80D7-03BBF7EB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D77-8823-43B4-B65E-B9DFB804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AB0-34A5-4C6F-9B71-5A1CDE03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9AA-7E29-4143-9A9E-B18D2075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A5F-A227-49B8-80B3-2A0036D2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BF1-1670-4B66-992B-8C18493B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5E9-9A52-4555-B0AB-CA646F7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ABE-6B4A-4E60-9CAF-52E4FF69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444-92CC-46C1-9836-BFA7992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C4BF-3267-43F2-91F8-0EB31D421CB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ap2-2     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371600" y="1676520"/>
                <a:ext cx="7010280" cy="44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heck for non-normal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df of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r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 p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 percentile of 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I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n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gure2a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9144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igure2a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igure2a.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igure2a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igure2a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igure2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8088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able2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igure2.7" descr=""/>
          <p:cNvPicPr/>
          <p:nvPr/>
        </p:nvPicPr>
        <p:blipFill>
          <a:blip r:embed="rId1"/>
          <a:stretch/>
        </p:blipFill>
        <p:spPr>
          <a:xfrm>
            <a:off x="2133720" y="0"/>
            <a:ext cx="437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igure2.8" descr=""/>
          <p:cNvPicPr/>
          <p:nvPr/>
        </p:nvPicPr>
        <p:blipFill>
          <a:blip r:embed="rId1"/>
          <a:stretch/>
        </p:blipFill>
        <p:spPr>
          <a:xfrm>
            <a:off x="2286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igure2.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" y="1600200"/>
                <a:ext cx="6981840" cy="38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ed normal probability paper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orm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plo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can be replaced by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5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hapes for normal 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7200" y="44197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1752480"/>
            <a:ext cx="1219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 2A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0480" y="18288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10480" y="22860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10480" y="27432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10480" y="32004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 Plot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523880" y="3325680"/>
                <a:ext cx="335448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523880" y="1600200"/>
                <a:ext cx="4087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normal score of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against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733920"/>
            <a:ext cx="131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2A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380988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648320"/>
            <a:ext cx="116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Fig.2A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72428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06360" y="1955880"/>
                <a:ext cx="7340760" cy="38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General checking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plot 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against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,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sidual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is correlated to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   The LSE fit of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</m:t>
                    </m:r>
                    <m:r>
                      <m:rPr>
                        <m:lit/>
                        <m:nor/>
                      </m:rPr>
                      <m:t xml:space="preserve">             a slope o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 a series of lines with slope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ferences in section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is helpful for formal tests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06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2.6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table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776240" y="2057400"/>
                <a:ext cx="3456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,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267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2.7    2.8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104920" y="1676520"/>
                <a:ext cx="5362560" cy="46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ction of 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autocorrel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where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id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and  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1523880"/>
                <a:ext cx="624816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Durbin-Watso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 is designed to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D-W statistic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is symmetric about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if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 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d</m:t>
                            </m:r>
                            <m:r>
                              <m:t xml:space="preserve">≈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23880" y="49798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28800" y="1676520"/>
                <a:ext cx="6197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or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clare test inconclusive  if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igure2a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07T01:17:55Z</dcterms:modified>
  <cp:revision>11</cp:revision>
  <dc:subject/>
  <dc:title>PowerPoint 簡報</dc:title>
</cp:coreProperties>
</file>