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477B-E31D-497B-9B7F-1545FF8BC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D491-207F-419A-9952-380C8B41B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1D98-F993-4535-835D-A54A897B1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14D4-672D-420D-BA85-5A585F04C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B47E-A80B-4BA3-BC0A-CEFFD4609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2871-616F-4984-9CAC-2E0909AA1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B932-1664-4882-80B2-4BA11F5ED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26C6-1443-4822-887D-8EC73297B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E308-3950-43B4-B28E-987EB942E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4482-E789-4D10-850A-F8FCA030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220D-D200-48D4-983B-13ED2C38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67C3-A94F-4567-9476-A77A46FC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A26BA-A945-40DF-A09A-843FE5F74535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2.jpeg"/><Relationship Id="rId3" Type="http://schemas.openxmlformats.org/officeDocument/2006/relationships/slide" Target="slide6.xm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Times New Roman"/>
              </a:rPr>
              <a:t>Chapter 2- Checking the fitted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838080" y="1066680"/>
                <a:ext cx="723924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call the residual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,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E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838080" y="3657600"/>
                <a:ext cx="73152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the model is correct, then E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and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f the model is Not correct, then E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≠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343160" y="4984920"/>
                <a:ext cx="700236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: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is a random variable with mean 0 , no matter E</m:t>
                    </m:r>
                    <m:r>
                      <m:t xml:space="preserve">(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or  E</m:t>
                    </m:r>
                    <m:r>
                      <m:t xml:space="preserve">(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≠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685800" y="4952880"/>
                <a:ext cx="68580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1371600" y="1295280"/>
                <a:ext cx="7086600" cy="17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et   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ju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sSub>
                          <m:e>
                            <m:r>
                              <m:t xml:space="preserve">ν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, 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    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of groups with repeat runs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esting Homogeneity of Pure Err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14400" y="914400"/>
                <a:ext cx="203040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Bartlett's te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5943600" y="23623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368360" y="3073320"/>
                <a:ext cx="675972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where  </m:t>
                        </m:r>
                        <m:sSub>
                          <m:e>
                            <m:r>
                              <m:t xml:space="preserve">ν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, 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The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ν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ν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r>
                              <m:t xml:space="preserve">⋯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ν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d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ν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ν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⋯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ν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447920" y="4114800"/>
                <a:ext cx="7414920" cy="24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et  </m:t>
                        </m:r>
                        <m:r>
                          <m:t xml:space="preserve">ν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ν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ν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ν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Then, if the group variances are all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same,  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ν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ν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nary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sSup>
                          <m:e>
                            <m:r>
                              <m:t xml:space="preserve">χ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 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ν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ν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⋯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ν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ν</m:t>
                                </m:r>
                              </m:den>
                            </m:f>
                          </m:e>
                        </m:d>
                        <m:r>
                          <m:t xml:space="preserve">/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3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6400800" y="638496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artlett’s test -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219320" y="990720"/>
                <a:ext cx="6578640" cy="459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ata : Table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5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5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6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1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den>
                            </m:f>
                          </m:e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3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8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2857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7055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5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845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⋯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80</m:t>
                            </m:r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20</m:t>
                                </m:r>
                              </m:e>
                            </m:d>
                          </m:e>
                        </m:d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2857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88485</m:t>
                            </m:r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36646</m:t>
                            </m:r>
                          </m:e>
                        </m:d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28571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t xml:space="preserve">χ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7,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5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19240" y="5715000"/>
                <a:ext cx="76438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clusion : No significant evidence for the nonhomogeneous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group-variatio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6248520" y="63244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esting Homogeneity of Pure Err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919080" y="1650960"/>
                <a:ext cx="59389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Modified Bartlett's tes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nsidering kurtosi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523880" y="2363760"/>
                <a:ext cx="6348600" cy="24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B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  <m:r>
                          <m:rPr>
                            <m:lit/>
                            <m:nor/>
                          </m:rPr>
                          <m:t xml:space="preserve">  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 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β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β</m:t>
                            </m:r>
                          </m:e>
                        </m:acc>
                      </m:e>
                    </m:eqArr>
                    <m:r>
                      <m:t xml:space="preserve">=</m:t>
                    </m:r>
                    <m:r>
                      <m:t xml:space="preserve">N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u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ju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nary>
                    <m:r>
                      <m:t xml:space="preserve">/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  <m:e>
                                <m:sSup>
                                  <m:e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u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</m: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Y</m:t>
                                                </m:r>
                                              </m:e>
                                              <m:sub>
                                                <m:r>
                                                  <m:rPr>
                                                    <m:lit/>
                                                    <m:nor/>
                                                  </m:rPr>
                                                  <m:t xml:space="preserve">ju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−</m:t>
                                            </m:r>
                                            <m:sSub>
                                              <m:e>
                                                <m:acc>
                                                  <m:accPr>
                                                    <m:chr m:val="¯"/>
                                                  </m:accPr>
                                                  <m:e>
                                                    <m:r>
                                                      <m:t xml:space="preserve">Y</m:t>
                                                    </m:r>
                                                  </m:e>
                                                </m:acc>
                                              </m:e>
                                              <m:sub>
                                                <m:r>
                                                  <m:t xml:space="preserve">j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488960" y="4927680"/>
                <a:ext cx="65754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stimates the common Kurtosis of the sets of repeats 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 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of observations in the sets of repeat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6248520" y="63244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Modified Bartlett’s test -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762120" y="1346040"/>
                <a:ext cx="7669080" cy="314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ata : Table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    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β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5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⋯</m:t>
                            </m:r>
                            <m:r>
                              <m:t xml:space="preserve">+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1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</m:e>
                            </m:d>
                          </m:e>
                        </m:d>
                        <m:r>
                          <m:t xml:space="preserve">(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5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  <m:r>
                      <m:rPr>
                        <m:lit/>
                        <m:nor/>
                      </m:rPr>
                      <m:t xml:space="preserve">           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31</m:t>
                        </m:r>
                      </m:e>
                    </m:d>
                    <m:r>
                      <m:t xml:space="preserve">(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5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91761</m:t>
                    </m:r>
                    <m:r>
                      <m:rPr>
                        <m:lit/>
                        <m:nor/>
                      </m:rPr>
                      <m:t xml:space="preserve">           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91761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2753</m:t>
                    </m:r>
                    <m:r>
                      <m:rPr>
                        <m:lit/>
                        <m:nor/>
                      </m:rPr>
                      <m:t xml:space="preserve">         </m:t>
                    </m:r>
                    <m:sSup>
                      <m:e>
                        <m:r>
                          <m:t xml:space="preserve">B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d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3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2753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405</m:t>
                    </m:r>
                    <m:r>
                      <m:t xml:space="preserve">&lt;</m:t>
                    </m:r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7,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912960" y="4775040"/>
                <a:ext cx="59450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clusion : No significant evidence for th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nonhomogeneous group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variatio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6095880" y="60199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esting Homogeneity of Pure Err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838080" y="1523880"/>
                <a:ext cx="367992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Levene's mean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based tes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165320" y="1979640"/>
                <a:ext cx="7521480" cy="419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et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u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u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, 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, 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rPr>
                            <m:lit/>
                            <m:nor/>
                          </m:rPr>
                          <m:t xml:space="preserve">,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  <m:e>
                                <m:r>
                                  <m:t xml:space="preserve">n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acc>
                                              <m:accPr>
                                                <m:chr m:val="¯"/>
                                              </m:accPr>
                                              <m:e>
                                                <m:r>
                                                  <m:t xml:space="preserve">Z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Z</m:t>
                                            </m:r>
                                          </m:e>
                                        </m:acc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  <m:r>
                              <m:t xml:space="preserve">/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u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Z</m:t>
                                                </m:r>
                                              </m:e>
                                              <m:sub>
                                                <m:r>
                                                  <m:rPr>
                                                    <m:lit/>
                                                    <m:nor/>
                                                  </m:rPr>
                                                  <m:t xml:space="preserve">ju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−</m:t>
                                            </m:r>
                                            <m:sSub>
                                              <m:e>
                                                <m:acc>
                                                  <m:accPr>
                                                    <m:chr m:val="¯"/>
                                                  </m:accPr>
                                                  <m:e>
                                                    <m:r>
                                                      <m:t xml:space="preserve">Z</m:t>
                                                    </m:r>
                                                  </m:e>
                                                </m:acc>
                                              </m:e>
                                              <m:sub>
                                                <m:r>
                                                  <m:t xml:space="preserve">j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nary>
                              </m:e>
                            </m:nary>
                            <m:r>
                              <m:t xml:space="preserve">/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d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where   {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u</m:t>
                                </m:r>
                              </m:sub>
                            </m:sSub>
                          </m:e>
                        </m:nary>
                        <m:r>
                          <m:t xml:space="preserve">/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,  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r>
                              <m:t xml:space="preserve">n</m:t>
                            </m:r>
                          </m:e>
                        </m:nary>
                        <m:acc>
                          <m:accPr>
                            <m:chr m:val="¯"/>
                          </m:acc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acc>
                        <m:r>
                          <m:t xml:space="preserve">/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r>
                              <m:t xml:space="preserve">n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609588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cc"/>
                </a:solidFill>
                <a:latin typeface="Times New Roman"/>
              </a:rPr>
              <a:t>Levene’s mean-based test -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17520" y="1574640"/>
                <a:ext cx="8558280" cy="26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ata : Table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  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8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8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{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</m:nary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23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ble 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</m:eqArr>
                    <m:r>
                      <m:rPr>
                        <m:lit/>
                        <m:nor/>
                      </m:rPr>
                      <m:t xml:space="preserve">          </m:t>
                    </m:r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87783</m:t>
                        </m:r>
                        <m:r>
                          <m:t xml:space="preserve">/</m:t>
                        </m:r>
                        <m:r>
                          <m:t xml:space="preserve">(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53333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4112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3533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24</m:t>
                    </m:r>
                    <m:r>
                      <m:rPr>
                        <m:lit/>
                        <m:nor/>
                      </m:rPr>
                      <m:t xml:space="preserve">              </m:t>
                    </m:r>
                    <m:r>
                      <m:t xml:space="preserve">&gt;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66760" y="4572000"/>
                <a:ext cx="56912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clusion : There are differences between th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variances of the various group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6019920" y="57913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esting Homogeneity of Pure Err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711360" y="1523880"/>
                <a:ext cx="393372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Levene's median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based tes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219320" y="2133720"/>
                <a:ext cx="6707160" cy="14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eqAr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u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u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, </m:t>
                            </m:r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,2</m:t>
                            </m:r>
                            <m:r>
                              <m:t xml:space="preserve">,</m:t>
                            </m:r>
                            <m:r>
                              <m:t xml:space="preserve">⋯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,  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r>
                              <m:t xml:space="preserve">1,2</m:t>
                            </m:r>
                            <m:r>
                              <m:t xml:space="preserve">,</m:t>
                            </m:r>
                            <m:r>
                              <m:t xml:space="preserve">⋯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here    {</m:t>
                            </m:r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</m:eqAr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edian of the </m:t>
                    </m:r>
                    <m:r>
                      <m:rPr>
                        <m:lit/>
                        <m:nor/>
                      </m:rPr>
                      <m:t xml:space="preserve">Ys</m:t>
                    </m:r>
                    <m:r>
                      <m:rPr>
                        <m:lit/>
                        <m:nor/>
                      </m:rPr>
                      <m:t xml:space="preserve"> in group 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            </m:t>
                    </m:r>
                    <m:r>
                      <m:t xml:space="preserve">F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same formula in Levene's mean-based te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6019920" y="57913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85800" y="2286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cc"/>
                </a:solidFill>
                <a:latin typeface="Times New Roman"/>
              </a:rPr>
              <a:t>Levene’s median-based test -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219320" y="1447920"/>
                <a:ext cx="4748040" cy="25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ata : Table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    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For 2 replicates,  {</m:t>
                            </m:r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eqArr>
                    <m:r>
                      <m:rPr>
                        <m:lit/>
                        <m:nor/>
                      </m:rPr>
                      <m:t xml:space="preserve">          For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{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Y</m:t>
                        </m:r>
                      </m:e>
                    </m:acc>
                    <m:sSub>
                      <m:e/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        For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{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Y</m:t>
                        </m:r>
                      </m:e>
                    </m:acc>
                    <m:sSub>
                      <m:e/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        </m:t>
                    </m:r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6</m:t>
                    </m:r>
                    <m:r>
                      <m:t xml:space="preserve">&gt;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141560" y="4419720"/>
                <a:ext cx="74689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o, again, differences are declared between groups variation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6019920" y="57913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04920" y="533520"/>
            <a:ext cx="868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esting Homogeneity of Pure Error-mo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57200" y="1447920"/>
                <a:ext cx="42894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econd example on page 59 in tex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33" name=""/>
          <p:cNvGraphicFramePr/>
          <p:nvPr/>
        </p:nvGraphicFramePr>
        <p:xfrm>
          <a:off x="1371600" y="2438280"/>
          <a:ext cx="6705720" cy="2438640"/>
        </p:xfrm>
        <a:graphic>
          <a:graphicData uri="http://schemas.openxmlformats.org/drawingml/2006/table">
            <a:tbl>
              <a:tblPr/>
              <a:tblGrid>
                <a:gridCol w="2514600"/>
                <a:gridCol w="1600200"/>
                <a:gridCol w="259092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rtlet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6.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ified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TW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d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6.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vene-Me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1.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vene-Medi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1.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5610240" y="2743200"/>
                <a:ext cx="22384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4,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5562720" y="4114800"/>
                <a:ext cx="24415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262240" y="1981080"/>
                <a:ext cx="63324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es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349280" y="5156280"/>
                <a:ext cx="49752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four tests reach the same conclus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of not rejecting homogeneity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6019920" y="60040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table2.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3371760"/>
          </a:xfrm>
          <a:prstGeom prst="rect">
            <a:avLst/>
          </a:prstGeom>
          <a:ln w="0">
            <a:noFill/>
          </a:ln>
        </p:spPr>
      </p:pic>
      <p:pic>
        <p:nvPicPr>
          <p:cNvPr id="140" name="table2.2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3276720"/>
            <a:ext cx="9144000" cy="26096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28600" y="60199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11 page13  page15  page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1447920" y="588960"/>
                <a:ext cx="54864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      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, 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,2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,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4572000" y="12193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123720" y="12193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685800" y="1676520"/>
                <a:ext cx="721980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sidua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endom component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systematic componen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</m:t>
                        </m:r>
                        <m:r>
                          <m:t xml:space="preserve">observed</m:t>
                        </m:r>
                        <m:r>
                          <m:t xml:space="preserve">errors</m:t>
                        </m:r>
                        <m:r>
                          <m:rPr>
                            <m:lit/>
                            <m:nor/>
                          </m:rPr>
                          <m:t xml:space="preserve"> if the model is correc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685800" y="2819520"/>
                <a:ext cx="68580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1447920" y="2895480"/>
                <a:ext cx="670536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, where 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o , 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if the model is correct, while </m:t>
                        </m:r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  <m:r>
                          <m:t xml:space="preserve">/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 if the model is not correct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  <m:r>
                          <m:t xml:space="preserve">/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table2.3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31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figure2.2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1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figure2.3" descr=""/>
          <p:cNvPicPr/>
          <p:nvPr/>
        </p:nvPicPr>
        <p:blipFill>
          <a:blip r:embed="rId1"/>
          <a:stretch/>
        </p:blipFill>
        <p:spPr>
          <a:xfrm>
            <a:off x="1676520" y="0"/>
            <a:ext cx="498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0948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Times New Roman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295280" y="685800"/>
                <a:ext cx="655344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ack of fit F tes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plications are needed for pure error estimatio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1295280" y="1828800"/>
                <a:ext cx="502920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isual investigation  - residual plot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284120" y="2590920"/>
                <a:ext cx="428976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non-normality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time  effect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non-constant  variance</m:t>
                        </m:r>
                      </m:e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higher order model or transformatio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59" name=""/>
          <p:cNvGraphicFramePr/>
          <p:nvPr/>
        </p:nvGraphicFramePr>
        <p:xfrm>
          <a:off x="1127160" y="4267080"/>
          <a:ext cx="742320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4267080"/>
                    <a:ext cx="74232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Times New Roman"/>
              </a:rPr>
              <a:t>Lack of fit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1066680" y="914400"/>
                <a:ext cx="5257800" cy="281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ata:</m:t>
                        </m:r>
                      </m:e>
                      <m:e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u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u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n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,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143000" y="3886200"/>
                <a:ext cx="4648320" cy="236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          observation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nary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residual</m:t>
                        </m:r>
                        <m:r>
                          <m:rPr>
                            <m:lit/>
                            <m:nor/>
                          </m:rPr>
                          <m:t xml:space="preserve"> SS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 Pure   error SS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lack  of  fit  S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u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u</m:t>
                                        </m:r>
                                      </m:sub>
                                    </m:sSub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nary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Times New Roman"/>
              </a:rPr>
              <a:t>Lack of fit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066680" y="1270080"/>
                <a:ext cx="38862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S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lack of fit  SS  /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 Pure  error  SS  /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143000" y="2286000"/>
                <a:ext cx="85104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S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514600" y="2438280"/>
                <a:ext cx="119376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219320" y="3048120"/>
                <a:ext cx="6476760" cy="17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F</m:t>
                        </m:r>
                        <m:r>
                          <m:t xml:space="preserve">&gt;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then the model id inadequat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f F</m:t>
                        </m:r>
                        <m:r>
                          <m:t xml:space="preserve">≤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then no reason to doubt the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adequacy of the model , 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the currect one is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plausible , but, may not be the correct on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Times New Roman"/>
              </a:rPr>
              <a:t>Lack of fit test –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762120" y="1511280"/>
                <a:ext cx="373356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ata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Table 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6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6 X</m:t>
                        </m:r>
                      </m:e>
                    </m:eqArr>
                    <m:r>
                      <m:rPr>
                        <m:lit/>
                        <m:nor/>
                      </m:rPr>
                      <m:t xml:space="preserve">ANOVA  -  Table  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838080" y="2971800"/>
                <a:ext cx="66294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mpute Pure error SS   only for those X with replicated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Ys  and then the lack of fit SS  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ack of fit test - Table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685800" y="4902120"/>
                <a:ext cx="68580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1523880" y="4800600"/>
                <a:ext cx="52070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99</m:t>
                    </m:r>
                    <m:r>
                      <m:t xml:space="preserve">/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77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47</m:t>
                    </m:r>
                    <m:r>
                      <m:rPr>
                        <m:lit/>
                        <m:nor/>
                      </m:rPr>
                      <m:t xml:space="preserve">  or  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952560" y="838080"/>
                <a:ext cx="7242120" cy="495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ets of  repeats for data in Table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j  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u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u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      d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      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    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,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           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            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5                      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     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    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,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           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            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45                      1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3      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     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,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           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0            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                      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     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     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,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           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            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                      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5      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    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,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,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     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            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40                     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6      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     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,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           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5            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45                      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7      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      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,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,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     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0            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0                     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8      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      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, 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           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            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0                      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otal                                                      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2666880" y="457200"/>
                <a:ext cx="35053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imum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830160" y="1176480"/>
                <a:ext cx="5807160" cy="13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fine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max 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Total SS , corrected - Pure error S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otal SS , corrected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maximun 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that can be attainable with the dat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4502160" y="3295800"/>
                <a:ext cx="139680" cy="26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838080" y="3683160"/>
                <a:ext cx="6197760" cy="21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               max 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77-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5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77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0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fitted model only explain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674</m:t>
                        </m:r>
                        <m:r>
                          <m:t xml:space="preserve">/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04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49</m:t>
                        </m:r>
                        <m:r>
                          <m:rPr>
                            <m:lit/>
                            <m:nor/>
                          </m:rPr>
                          <m:t xml:space="preserve"> or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bout 40% of the amount that can be explaine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Why?   need  a  further study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Fi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685800" y="3429000"/>
                <a:ext cx="12952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xampl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41200" y="863640"/>
                <a:ext cx="8128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533520" y="1371600"/>
                <a:ext cx="7848360" cy="19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adding or dropping X' s  affects  Max 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When there is no or few exact replicates , try </m:t>
                        </m:r>
                        <m:r>
                          <m:t xml:space="preserve">approximate</m:t>
                        </m:r>
                        <m:r>
                          <m:rPr>
                            <m:lit/>
                            <m:nor/>
                          </m:rPr>
                          <m:t xml:space="preserve"> {} # 
</m:t>
                        </m:r>
                        <m:r>
                          <m:t xml:space="preserve">repeats</m:t>
                        </m:r>
                        <m:r>
                          <m:rPr>
                            <m:lit/>
                            <m:nor/>
                          </m:rPr>
                          <m:t xml:space="preserve">  on  grouping closed points in X- spac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For possible cases related  to straight  line fit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Fig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4T08:35:43Z</dcterms:created>
  <dc:creator>user</dc:creator>
  <dc:description/>
  <dc:language>en-US</dc:language>
  <cp:lastModifiedBy>stat</cp:lastModifiedBy>
  <dcterms:modified xsi:type="dcterms:W3CDTF">2003-09-30T01:20:08Z</dcterms:modified>
  <cp:revision>27</cp:revision>
  <dc:subject/>
  <dc:title>PowerPoint 簡報</dc:title>
</cp:coreProperties>
</file>