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8BB2-A3F7-4C97-89BD-0B906E32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408-495A-45E5-876A-1CD59308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7F7-4B5B-4998-92D1-BCA53EFA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8A6-82EA-490B-B093-9D505760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70A-8F0F-4734-91BB-53666A43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1DF-54E0-46BF-9856-84EBE17F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138-4DD5-4C88-ABEB-08F1E7A9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DD7-C44B-4082-8BC1-9750B63D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D7D0-A9A3-4E12-9C8A-835772FA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6C5-F677-42BD-B60D-9DC6869E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9A8-31A8-4A94-BFB9-DEB411BA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24F-F673-4079-8A78-9E38EFC8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F45A-5C80-4E0E-8CF1-6725E654DEA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ap2-2     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371600" y="1676520"/>
                <a:ext cx="7010280" cy="44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heck for non-normal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where 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pdf of 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or 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the p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 percentile of 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If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θ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then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θ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b>
                        </m:sSub>
                        <m:r>
                          <m:t xml:space="preserve">&lt;</m:t>
                        </m:r>
                        <m:r>
                          <m:t xml:space="preserve">⋯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θ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igure2a.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09480"/>
            <a:ext cx="91440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igure2a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igure2a.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30492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igure2a.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28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pag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igure2a.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5720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pag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igure2.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80880"/>
            <a:ext cx="914400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able2.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figure2.7" descr=""/>
          <p:cNvPicPr/>
          <p:nvPr/>
        </p:nvPicPr>
        <p:blipFill>
          <a:blip r:embed="rId1"/>
          <a:stretch/>
        </p:blipFill>
        <p:spPr>
          <a:xfrm>
            <a:off x="2133720" y="0"/>
            <a:ext cx="437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figure2.8" descr=""/>
          <p:cNvPicPr/>
          <p:nvPr/>
        </p:nvPicPr>
        <p:blipFill>
          <a:blip r:embed="rId1"/>
          <a:stretch/>
        </p:blipFill>
        <p:spPr>
          <a:xfrm>
            <a:off x="2286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igure2.9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57200" y="1600200"/>
                <a:ext cx="6981840" cy="38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against  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eed normal probability paper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lot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against   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orma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or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plo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-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can be replaced by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5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Shapes for normal plo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7200" y="441972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1752480"/>
            <a:ext cx="1219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 2A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 2A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 2A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 2A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10480" y="18288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10480" y="22860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10480" y="27432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10480" y="32004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mal Plot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523880" y="3325680"/>
                <a:ext cx="3354480" cy="17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1 : 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1 : Lack of fit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523880" y="1600200"/>
                <a:ext cx="4087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lot normal score of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 against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733920"/>
            <a:ext cx="131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2A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380988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4648320"/>
            <a:ext cx="1163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2A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72428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206360" y="1955880"/>
                <a:ext cx="7340760" cy="38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General checking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plot 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against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  <m:r>
                      <m:rPr>
                        <m:lit/>
                        <m:nor/>
                      </m:rPr>
                      <m:t xml:space="preserve">                   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,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esidual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is correlated to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   The LSE fit of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gains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produces</m:t>
                    </m:r>
                    <m:r>
                      <m:rPr>
                        <m:lit/>
                        <m:nor/>
                      </m:rPr>
                      <m:t xml:space="preserve">             a slope of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gains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produces a series of lines with slope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eferences in section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 is helpful for formal tests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20680" y="33796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943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ig2.6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table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776240" y="2057400"/>
                <a:ext cx="345600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1 : 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1 : Lack of fit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,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267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2.7    2.8     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104920" y="1676520"/>
                <a:ext cx="5362560" cy="46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ction of 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order autocorrel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-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where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iid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and  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</m:d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438280" y="33796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76520" y="1523880"/>
                <a:ext cx="6248160" cy="477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Durbin-Watso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est is designed to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D-W statistic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is symmetric about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≈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if 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 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d</m:t>
                            </m:r>
                            <m:r>
                              <m:t xml:space="preserve">≈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523880" y="49798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828800" y="1676520"/>
                <a:ext cx="6197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Conclude 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Conclude  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-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 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or 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-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clare test inconclusive  if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igure2a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0-07T01:17:55Z</dcterms:modified>
  <cp:revision>11</cp:revision>
  <dc:subject/>
  <dc:title>PowerPoint 簡報</dc:title>
</cp:coreProperties>
</file>