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F9E8-1921-4D5A-AF4D-FCC0F937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7C71-586D-4145-BD9F-D3D20B63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C0A-0795-43AB-A24E-7580B1CF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7AE-9F23-4302-AA8E-A2D42F42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D163-A443-4A23-88D5-36465174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AEE-0097-49A8-8519-56D96885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E7F2-3585-47A8-B153-30C2A03D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8EE-02C7-4757-BCD8-7DC6B68D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D767-49CE-479F-A1B7-1C5B28F3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F59-E8E5-4E01-A497-62492CB9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318-004E-4D2E-8964-5807F42B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070-8397-4981-B2E1-87FC1690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5417-7A7A-416B-B8D4-B7A8503670F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jpeg"/><Relationship Id="rId3" Type="http://schemas.openxmlformats.org/officeDocument/2006/relationships/slide" Target="slide6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Chapter 2- Checking the fitte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838080" y="1066680"/>
                <a:ext cx="72392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call the residual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38080" y="3657600"/>
                <a:ext cx="7315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model is correct, then 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and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the model is Not correct, then 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343160" y="4984920"/>
                <a:ext cx="70023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: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a random variable with mean 0 , no matter E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or  E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≠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85800" y="4952880"/>
                <a:ext cx="6858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371600" y="1295280"/>
                <a:ext cx="70866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ju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of groups with repeat runs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esting Homogeneity of Pure Err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14400" y="914400"/>
                <a:ext cx="20304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artlett's te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5943600" y="2362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68360" y="3073320"/>
                <a:ext cx="6759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47920" y="4114800"/>
                <a:ext cx="7414920" cy="24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</m:t>
                        </m:r>
                        <m:r>
                          <m:t xml:space="preserve">ν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, if the group variances are all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same,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ν</m:t>
                                </m:r>
                              </m:den>
                            </m:f>
                          </m:e>
                        </m:d>
                        <m:r>
                          <m:t xml:space="preserve">/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400800" y="6384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artlett’s test -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19320" y="990720"/>
                <a:ext cx="6578640" cy="45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ta :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5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6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857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055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5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45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0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0</m:t>
                                </m:r>
                              </m:e>
                            </m:d>
                          </m:e>
                        </m:d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857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8485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36646</m:t>
                            </m:r>
                          </m:e>
                        </m:d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8571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,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19240" y="5715000"/>
                <a:ext cx="7643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clusion : No significant evidence for the nonhomogeneou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group-vari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248520" y="6324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esting Homogeneity of Pure Err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919080" y="1650960"/>
                <a:ext cx="5938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Modified Bartlett's tes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sidering kurtosi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523880" y="2363760"/>
                <a:ext cx="6348600" cy="24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r>
                      <m:t xml:space="preserve">N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ju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nary>
                    <m:r>
                      <m:t xml:space="preserve">/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p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u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ju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488960" y="4927680"/>
                <a:ext cx="6575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stimates the common Kurtosis of the sets of repeats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f observations in the sets of repeat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6248520" y="6324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odified Bartlett’s test -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2120" y="1346040"/>
                <a:ext cx="7669080" cy="31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ta :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1</m:t>
                        </m:r>
                      </m:e>
                    </m:d>
                    <m:r>
                      <m:t xml:space="preserve">(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176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176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2753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sSup>
                      <m:e>
                        <m:r>
                          <m:t xml:space="preserve">B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2753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05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7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12960" y="4775040"/>
                <a:ext cx="5945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clusion : No significant evidence for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nonhomogeneous grou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ari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095880" y="6019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esting Homogeneity of Pure Err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38080" y="1523880"/>
                <a:ext cx="3679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Levene's mea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ased te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65320" y="1979640"/>
                <a:ext cx="7521480" cy="41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,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n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/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ju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Z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nary>
                            <m:r>
                              <m:t xml:space="preserve">/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where 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u</m:t>
                                </m:r>
                              </m:sub>
                            </m:sSub>
                          </m:e>
                        </m:nary>
                        <m:r>
                          <m:t xml:space="preserve">/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,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n</m:t>
                            </m:r>
                          </m:e>
                        </m:nary>
                        <m:acc>
                          <m:accPr>
                            <m:chr m:val="¯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  <m:r>
                          <m:t xml:space="preserve">/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n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09588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cc"/>
                </a:solidFill>
                <a:latin typeface="Times New Roman"/>
              </a:rPr>
              <a:t>Levene’s mean-based test -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17520" y="1574640"/>
                <a:ext cx="855828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ta :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8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8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nary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ble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7783</m:t>
                        </m:r>
                        <m:r>
                          <m:t xml:space="preserve">/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3333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11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533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4</m:t>
                    </m:r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&gt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66760" y="4572000"/>
                <a:ext cx="56912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clusion : There are differences betwee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variances of the various group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01992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esting Homogeneity of Pure Err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11360" y="1523880"/>
                <a:ext cx="3933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Levene's media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ased te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219320" y="2133720"/>
                <a:ext cx="670716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u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u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, </m:t>
                            </m:r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, 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here    {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dian of the </m:t>
                    </m:r>
                    <m:r>
                      <m:rPr>
                        <m:lit/>
                        <m:nor/>
                      </m:rPr>
                      <m:t xml:space="preserve">Ys</m:t>
                    </m:r>
                    <m:r>
                      <m:rPr>
                        <m:lit/>
                        <m:nor/>
                      </m:rPr>
                      <m:t xml:space="preserve"> in group 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            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same formula in Levene's mean-based te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601992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2286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cc"/>
                </a:solidFill>
                <a:latin typeface="Times New Roman"/>
              </a:rPr>
              <a:t>Levene’s median-based test -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219320" y="1447920"/>
                <a:ext cx="4748040" cy="25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ta :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 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For 2 replicates,  {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  <m:r>
                      <m:rPr>
                        <m:lit/>
                        <m:nor/>
                      </m:rPr>
                      <m:t xml:space="preserve">          For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For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6</m:t>
                    </m:r>
                    <m:r>
                      <m:t xml:space="preserve">&gt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141560" y="4419720"/>
                <a:ext cx="7468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, again, differences are declared between groups variation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01992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esting Homogeneity of Pure Error-m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" y="1447920"/>
                <a:ext cx="4289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cond example on page 59 in tex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3" name=""/>
          <p:cNvGraphicFramePr/>
          <p:nvPr/>
        </p:nvGraphicFramePr>
        <p:xfrm>
          <a:off x="1371600" y="2438280"/>
          <a:ext cx="6705720" cy="2438640"/>
        </p:xfrm>
        <a:graphic>
          <a:graphicData uri="http://schemas.openxmlformats.org/drawingml/2006/table">
            <a:tbl>
              <a:tblPr/>
              <a:tblGrid>
                <a:gridCol w="2514600"/>
                <a:gridCol w="1600200"/>
                <a:gridCol w="2590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tlet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6.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e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d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6.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vene-M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1.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vene-Me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1.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610240" y="2743200"/>
                <a:ext cx="2238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4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562720" y="4114800"/>
                <a:ext cx="2441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262240" y="1981080"/>
                <a:ext cx="6332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e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349280" y="5156280"/>
                <a:ext cx="4975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four tests reach the same conclus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of not rejecting homogeneit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6019920" y="6004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able2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3371760"/>
          </a:xfrm>
          <a:prstGeom prst="rect">
            <a:avLst/>
          </a:prstGeom>
          <a:ln w="0">
            <a:noFill/>
          </a:ln>
        </p:spPr>
      </p:pic>
      <p:pic>
        <p:nvPicPr>
          <p:cNvPr id="140" name="table2.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276720"/>
            <a:ext cx="9144000" cy="2609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600" y="6019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11 page13  page15  pag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447920" y="588960"/>
                <a:ext cx="5486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, 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2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4572000" y="1219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123720" y="12193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85800" y="1676520"/>
                <a:ext cx="72198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idua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ndom component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systematic compon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observed</m:t>
                        </m:r>
                        <m:r>
                          <m:t xml:space="preserve">errors</m:t>
                        </m:r>
                        <m:r>
                          <m:rPr>
                            <m:lit/>
                            <m:nor/>
                          </m:rPr>
                          <m:t xml:space="preserve"> if the model is correc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85800" y="2819520"/>
                <a:ext cx="6858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447920" y="2895480"/>
                <a:ext cx="67053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 where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 , 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if the model is correct, while 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/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if the model is not correct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/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able2.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figure2.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igure2.3" descr=""/>
          <p:cNvPicPr/>
          <p:nvPr/>
        </p:nvPicPr>
        <p:blipFill>
          <a:blip r:embed="rId1"/>
          <a:stretch/>
        </p:blipFill>
        <p:spPr>
          <a:xfrm>
            <a:off x="1676520" y="0"/>
            <a:ext cx="498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295280" y="685800"/>
                <a:ext cx="65534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ack of fit F t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plications are needed for pure error estim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295280" y="1828800"/>
                <a:ext cx="50292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isual investigation  - residual plo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284120" y="2590920"/>
                <a:ext cx="428976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non-normality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ime  effect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non-constant  variance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higher order model or transform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9" name=""/>
          <p:cNvGraphicFramePr/>
          <p:nvPr/>
        </p:nvGraphicFramePr>
        <p:xfrm>
          <a:off x="1127160" y="4267080"/>
          <a:ext cx="74232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4267080"/>
                    <a:ext cx="7423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Lack of fit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066680" y="914400"/>
                <a:ext cx="5257800" cy="28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ta:</m:t>
                        </m:r>
                      </m:e>
                      <m:e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143000" y="3886200"/>
                <a:ext cx="464832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  observation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residual</m:t>
                        </m:r>
                        <m:r>
                          <m:rPr>
                            <m:lit/>
                            <m:nor/>
                          </m:rPr>
                          <m:t xml:space="preserve"> SS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Pure   error SS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lack  of  fit  S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Lack of fit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066680" y="1270080"/>
                <a:ext cx="3886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lack of fit  SS  /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Pure  error  SS  /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143000" y="2286000"/>
                <a:ext cx="8510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14600" y="2438280"/>
                <a:ext cx="1193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219320" y="3048120"/>
                <a:ext cx="647676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F</m:t>
                        </m:r>
                        <m:r>
                          <m:t xml:space="preserve">&gt;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n the model id inadequat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F</m:t>
                        </m:r>
                        <m:r>
                          <m:t xml:space="preserve">≤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n no reason to doubt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adequacy of the model ,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currect one i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plausible , but, may not be the correct on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Lack of fit test –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62120" y="1511280"/>
                <a:ext cx="373356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Table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6 X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ANOVA  -  Table 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838080" y="2971800"/>
                <a:ext cx="6629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ute Pure error SS   only for those X with replicat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Ys  and then the lack of fit SS  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ack of fit test -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85800" y="4902120"/>
                <a:ext cx="6858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523880" y="4800600"/>
                <a:ext cx="5207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9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77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47</m:t>
                    </m:r>
                    <m:r>
                      <m:rPr>
                        <m:lit/>
                        <m:nor/>
                      </m:rPr>
                      <m:t xml:space="preserve">  or  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52560" y="838080"/>
                <a:ext cx="7242120" cy="495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ts of  repeats for data in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u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d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        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                      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,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       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5                     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 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,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 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                      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 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                      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      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        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0                     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      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,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        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5                      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7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 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        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0                     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8     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,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     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        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                      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tal                                                      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666880" y="457200"/>
                <a:ext cx="3505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imum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830160" y="1176480"/>
                <a:ext cx="580716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in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max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otal SS , corrected - Pure error S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otal SS , corrected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maximun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that can be attainable with the dat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02160" y="3295800"/>
                <a:ext cx="13968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38080" y="3683160"/>
                <a:ext cx="6197760" cy="21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     max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7-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7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0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fitted model only explain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74</m:t>
                        </m:r>
                        <m:r>
                          <m:t xml:space="preserve">/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0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49</m:t>
                        </m:r>
                        <m:r>
                          <m:rPr>
                            <m:lit/>
                            <m:nor/>
                          </m:rPr>
                          <m:t xml:space="preserve"> or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out 40% of the amount that can be explain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Why?   need  a  further study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85800" y="3429000"/>
                <a:ext cx="1295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ampl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41200" y="863640"/>
                <a:ext cx="8128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33520" y="1371600"/>
                <a:ext cx="784836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dding or dropping X' s  affects  Max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When there is no or few exact replicates , try </m:t>
                        </m:r>
                        <m:r>
                          <m:t xml:space="preserve">approximate</m:t>
                        </m:r>
                        <m:r>
                          <m:rPr>
                            <m:lit/>
                            <m:nor/>
                          </m:rPr>
                          <m:t xml:space="preserve"> {} # 
</m:t>
                        </m:r>
                        <m:r>
                          <m:t xml:space="preserve">repeats</m:t>
                        </m:r>
                        <m:r>
                          <m:rPr>
                            <m:lit/>
                            <m:nor/>
                          </m:rPr>
                          <m:t xml:space="preserve">  on  grouping closed points in X- spac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or possible cases related  to straight  line fit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ig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09-30T01:20:08Z</dcterms:modified>
  <cp:revision>27</cp:revision>
  <dc:subject/>
  <dc:title>PowerPoint 簡報</dc:title>
</cp:coreProperties>
</file>