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B76-E094-4085-AE6A-808D5F3A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AF5-14C3-4222-B2A2-06D8D32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25C-38CC-4CE7-84CD-9F427482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CBD-653A-4523-922B-C1500161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508-7E62-4C13-87A4-6949BD2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3EF-7BCD-4E80-9931-702A3765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254-51D0-4692-9C1E-8B97607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C3E-8A74-4603-A43B-A625C4F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75E-1107-4224-8038-05E4ED4D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54F-7F5F-41CA-95C6-AFCAD77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B89-97B9-49DA-84EA-2966F33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6E2-D155-412F-8825-303A7545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40E1-026D-4F6B-953C-6D4D85A3D66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Chapter 2- Checking the fitt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38080" y="1066680"/>
                <a:ext cx="7239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call the residua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38080" y="3657600"/>
                <a:ext cx="7315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is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the model is Not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43160" y="4984920"/>
                <a:ext cx="70023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: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 random variable with mean 0 , no matter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r 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" y="49528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1295280"/>
                <a:ext cx="70866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f groups with repeat run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914400"/>
                <a:ext cx="2030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artlett's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94360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68360" y="3073320"/>
                <a:ext cx="6759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4114800"/>
                <a:ext cx="741492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r>
                          <m:t xml:space="preserve">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, if the group variances are al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ame,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ν</m:t>
                                </m:r>
                              </m:den>
                            </m:f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008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19320" y="990720"/>
                <a:ext cx="6578640" cy="45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5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5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0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0</m:t>
                                </m:r>
                              </m:e>
                            </m:d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848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6646</m:t>
                            </m:r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19240" y="5715000"/>
                <a:ext cx="7643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 nonhomogeneou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group-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9080" y="1650960"/>
                <a:ext cx="593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Modified Bartlett's tes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idering kurto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23880" y="2363760"/>
                <a:ext cx="63486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  <m:r>
                      <m:t xml:space="preserve">/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88960" y="4927680"/>
                <a:ext cx="6575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s the common Kurtosis of the sets of repeats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observations in the sets of repea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dified 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1346040"/>
                <a:ext cx="766908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</m:e>
                    </m:d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5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7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2960" y="4775040"/>
                <a:ext cx="5945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nonhomogeneous grou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58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523880"/>
                <a:ext cx="3679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65320" y="1979640"/>
                <a:ext cx="7521480" cy="41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n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/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Z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  <m:r>
                              <m:t xml:space="preserve">/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where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/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/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09588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7520" y="1574640"/>
                <a:ext cx="85582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ble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783</m:t>
                        </m:r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333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11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3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4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66760" y="4572000"/>
                <a:ext cx="5691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There are differences betwe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variances of the various group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11360" y="1523880"/>
                <a:ext cx="3933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di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2133720"/>
                <a:ext cx="670716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 of the </m:t>
                    </m:r>
                    <m:r>
                      <m:rPr>
                        <m:lit/>
                        <m:nor/>
                      </m:rPr>
                      <m:t xml:space="preserve">Ys</m:t>
                    </m:r>
                    <m:r>
                      <m:rPr>
                        <m:lit/>
                        <m:nor/>
                      </m:rPr>
                      <m:t xml:space="preserve"> in group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same formula in Levene's mean-based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di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9320" y="1447920"/>
                <a:ext cx="474804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For 2 replicates,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41560" y="4419720"/>
                <a:ext cx="746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, again, differences are declared between groups variation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-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447920"/>
                <a:ext cx="4289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ond example on page 59 in tex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1371600" y="2438280"/>
          <a:ext cx="6705720" cy="243864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2590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tle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e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610240" y="2743200"/>
                <a:ext cx="2238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62720" y="4114800"/>
                <a:ext cx="2441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62240" y="1981080"/>
                <a:ext cx="633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49280" y="5156280"/>
                <a:ext cx="497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four tests reach the same conclus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not rejecting homogeneit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19920" y="6004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71760"/>
          </a:xfrm>
          <a:prstGeom prst="rect">
            <a:avLst/>
          </a:prstGeom>
          <a:ln w="0">
            <a:noFill/>
          </a:ln>
        </p:spPr>
      </p:pic>
      <p:pic>
        <p:nvPicPr>
          <p:cNvPr id="140" name="table2.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276720"/>
            <a:ext cx="9144000" cy="260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6019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11 page13  page15  pag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47920" y="588960"/>
                <a:ext cx="5486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,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1219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85800" y="1676520"/>
                <a:ext cx="7219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ndom componen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systematic compon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observed</m:t>
                        </m:r>
                        <m:r>
                          <m:t xml:space="preserve">errors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2819520"/>
                <a:ext cx="685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47920" y="2895480"/>
                <a:ext cx="6705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, while 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f the model is not correct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able2.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igure2.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igure2.3" descr=""/>
          <p:cNvPicPr/>
          <p:nvPr/>
        </p:nvPicPr>
        <p:blipFill>
          <a:blip r:embed="rId1"/>
          <a:stretch/>
        </p:blipFill>
        <p:spPr>
          <a:xfrm>
            <a:off x="16765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95280" y="685800"/>
                <a:ext cx="65534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ck of fit F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lications are needed for pure error esti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95280" y="1828800"/>
                <a:ext cx="5029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sual investigation  - residual pl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84120" y="2590920"/>
                <a:ext cx="42897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normalit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ime  effec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constant  variance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igher order model or transfor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1127160" y="4267080"/>
          <a:ext cx="7423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4267080"/>
                    <a:ext cx="742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66680" y="914400"/>
                <a:ext cx="52578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886200"/>
                <a:ext cx="4648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observation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 error SS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lack  of  fit 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66680" y="1270080"/>
                <a:ext cx="3886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lack of fit  SS  /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error  SS  /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43000" y="2286000"/>
                <a:ext cx="851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4600" y="2438280"/>
                <a:ext cx="1193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19320" y="3048120"/>
                <a:ext cx="6476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the model id inadequa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no reason to doubt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adequacy of the model ,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currect one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plausible , but, may not be the correct on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 –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1511280"/>
                <a:ext cx="3733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Table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6 X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NOVA  -  Table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971800"/>
                <a:ext cx="662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Pure error SS   only for those X with replica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s  and then the lack of fit SS 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test -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490212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4800600"/>
                <a:ext cx="5207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9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7</m:t>
                    </m:r>
                    <m:r>
                      <m:rPr>
                        <m:lit/>
                        <m:nor/>
                      </m:rPr>
                      <m:t xml:space="preserve">  or  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52560" y="838080"/>
                <a:ext cx="724212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ts of  repeats for data in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d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   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                             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66880" y="457200"/>
                <a:ext cx="3505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imum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30160" y="1176480"/>
                <a:ext cx="58071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SS , corrected - Pure error 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 SS , correcte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maximun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hat can be attainable with the da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2160" y="3295800"/>
                <a:ext cx="1396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3683160"/>
                <a:ext cx="619776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-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itted model only explain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74</m:t>
                        </m:r>
                        <m:r>
                          <m:t xml:space="preserve">/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49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out 40% of the amount that can be explain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y?   need  a  further study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5800" y="3429000"/>
                <a:ext cx="1295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200" y="86364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1371600"/>
                <a:ext cx="78483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ding or dropping X' s  affects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hen there is no or few exact replicates , try </m:t>
                        </m:r>
                        <m:r>
                          <m:t xml:space="preserve">approximate</m:t>
                        </m:r>
                        <m:r>
                          <m:rPr>
                            <m:lit/>
                            <m:nor/>
                          </m:rPr>
                          <m:t xml:space="preserve"> {} # 
</m:t>
                        </m:r>
                        <m:r>
                          <m:t xml:space="preserve">repeats</m:t>
                        </m:r>
                        <m:r>
                          <m:rPr>
                            <m:lit/>
                            <m:nor/>
                          </m:rPr>
                          <m:t xml:space="preserve">  on  grouping closed points in X- spac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possible cases related  to straight  line f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20:08Z</dcterms:modified>
  <cp:revision>27</cp:revision>
  <dc:subject/>
  <dc:title>PowerPoint 簡報</dc:title>
</cp:coreProperties>
</file>