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D25F3-19C1-4650-A5AE-D40897168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CA04E-6D67-4592-B2CE-DC756DBE9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9D500-4AA8-4743-8570-47F64C75E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648FF-9CFC-49DA-BFA1-E7C541FB1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BFEA0-BB76-46DD-B542-53ADE45DB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D03A5-A9AE-49E4-83D2-225962234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50EFC-B6F2-4AB8-86B6-45E15E388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0EC2E-F2CA-4256-88F9-331DDD199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81930-59D3-444D-B21A-9B7F76C60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A1F06-BA03-40F5-8BFA-241F6AE81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FC66B-E66C-499A-9DA4-945630B32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74FDC-3785-44B1-8874-FCED42A01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CA94C-A67F-4EC9-89C7-C1606DDD735E}" type="slidenum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" Target="slide3.xml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6.jpeg"/><Relationship Id="rId3" Type="http://schemas.openxmlformats.org/officeDocument/2006/relationships/slide" Target="slide3.xml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" Target="slide16.xm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Chap2-2     Residual Plo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1371600" y="1676520"/>
                <a:ext cx="7010280" cy="441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Check for non-normality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</m:t>
                        </m:r>
                        <m:r>
                          <m:t xml:space="preserve">p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φ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z</m:t>
                                </m:r>
                              </m:e>
                            </m:d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  <m:r>
                          <m:t xml:space="preserve">=</m:t>
                        </m:r>
                        <m:r>
                          <m:t xml:space="preserve">Φ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where </m:t>
                        </m:r>
                        <m:r>
                          <m:t xml:space="preserve">φ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z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is the pdf of N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0,1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or   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Φ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p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z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p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, the p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00 percentile of N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If </m:t>
                        </m:r>
                        <m:r>
                          <m:t xml:space="preserve">Y</m:t>
                        </m:r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  <m:r>
                          <m:t xml:space="preserve">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μ</m:t>
                            </m:r>
                            <m:r>
                              <m:t xml:space="preserve">,</m:t>
                            </m:r>
                            <m:sSup>
                              <m:e>
                                <m:r>
                                  <m:t xml:space="preserve">θ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, then 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μ</m:t>
                        </m:r>
                        <m:r>
                          <m:t xml:space="preserve">+</m:t>
                        </m:r>
                        <m:r>
                          <m:t xml:space="preserve">θz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p</m:t>
                            </m:r>
                          </m:e>
                        </m:d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Let  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</m:e>
                            </m:d>
                          </m:sub>
                        </m:sSub>
                        <m:r>
                          <m:t xml:space="preserve">&lt;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2</m:t>
                                </m:r>
                              </m:e>
                            </m:d>
                          </m:sub>
                        </m:sSub>
                        <m:r>
                          <m:t xml:space="preserve">&lt;</m:t>
                        </m:r>
                        <m:r>
                          <m:t xml:space="preserve">⋯</m:t>
                        </m:r>
                        <m:r>
                          <m:t xml:space="preserve">&lt;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m</m:t>
                                </m:r>
                              </m:e>
                            </m:d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The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i</m:t>
                                </m:r>
                              </m:e>
                            </m:d>
                          </m:sub>
                        </m:sSub>
                        <m:r>
                          <m:t xml:space="preserve">=</m:t>
                        </m:r>
                        <m:r>
                          <m:t xml:space="preserve">μ</m:t>
                        </m:r>
                        <m:r>
                          <m:t xml:space="preserve">+</m:t>
                        </m:r>
                        <m:r>
                          <m:t xml:space="preserve">θz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5</m:t>
                                </m:r>
                              </m:num>
                              <m:den>
                                <m:r>
                                  <m:t xml:space="preserve">m</m:t>
                                </m:r>
                              </m:den>
                            </m:f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, </m:t>
                        </m:r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,2</m:t>
                        </m:r>
                        <m:r>
                          <m:t xml:space="preserve">,</m:t>
                        </m:r>
                        <m:r>
                          <m:t xml:space="preserve">⋯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3" name=""/>
          <p:cNvSpPr/>
          <p:nvPr/>
        </p:nvSpPr>
        <p:spPr>
          <a:xfrm>
            <a:off x="6172200" y="630864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中大統計所</a:t>
            </a: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2003/09/2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figure2a.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609480"/>
            <a:ext cx="9144000" cy="492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figure2a.3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1523880"/>
            <a:ext cx="9144000" cy="30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figure2a.4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-304920" y="7920"/>
            <a:ext cx="9144000" cy="68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figure2a.5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152280"/>
            <a:ext cx="9144000" cy="494028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609480" y="54100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3" action="ppaction://hlinksldjump"/>
              </a:rPr>
              <a:t>page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figure2a.6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457200"/>
            <a:ext cx="9144000" cy="494028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304920" y="56386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3" action="ppaction://hlinksldjump"/>
              </a:rPr>
              <a:t>page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figure2.6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380880"/>
            <a:ext cx="9144000" cy="592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table2.5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1143000"/>
            <a:ext cx="9144000" cy="432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figure2.7" descr=""/>
          <p:cNvPicPr/>
          <p:nvPr/>
        </p:nvPicPr>
        <p:blipFill>
          <a:blip r:embed="rId1"/>
          <a:stretch/>
        </p:blipFill>
        <p:spPr>
          <a:xfrm>
            <a:off x="2133720" y="0"/>
            <a:ext cx="4375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figure2.8" descr=""/>
          <p:cNvPicPr/>
          <p:nvPr/>
        </p:nvPicPr>
        <p:blipFill>
          <a:blip r:embed="rId1"/>
          <a:stretch/>
        </p:blipFill>
        <p:spPr>
          <a:xfrm>
            <a:off x="2286000" y="0"/>
            <a:ext cx="4437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figure2.9" descr=""/>
          <p:cNvPicPr/>
          <p:nvPr/>
        </p:nvPicPr>
        <p:blipFill>
          <a:blip r:embed="rId1"/>
          <a:stretch/>
        </p:blipFill>
        <p:spPr>
          <a:xfrm>
            <a:off x="0" y="533520"/>
            <a:ext cx="9144000" cy="550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Residual Plo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457200" y="1600200"/>
                <a:ext cx="6981840" cy="385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Plot     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i</m:t>
                                </m:r>
                              </m:e>
                            </m:d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 against   </m:t>
                        </m:r>
                        <m:f>
                          <m:num>
                            <m:r>
                              <m:t xml:space="preserve">i</m:t>
                            </m:r>
                            <m:r>
                              <m:t xml:space="preserve">−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Need normal probability paper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Fig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2A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-2A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4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lot     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i</m:t>
                                </m:r>
                              </m:e>
                            </m:d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 against   </m:t>
                        </m:r>
                        <m:r>
                          <m:t xml:space="preserve">z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5</m:t>
                                </m:r>
                              </m:num>
                              <m:den>
                                <m:r>
                                  <m:t xml:space="preserve">m</m:t>
                                </m:r>
                              </m:den>
                            </m:f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normal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core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plot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Fig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2A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-2A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6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f>
                          <m:num>
                            <m:r>
                              <m:t xml:space="preserve">i</m:t>
                            </m:r>
                            <m:r>
                              <m:t xml:space="preserve">−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can be replaced by </m:t>
                        </m:r>
                        <m:f>
                          <m:num>
                            <m:r>
                              <m:t xml:space="preserve">i</m:t>
                            </m:r>
                            <m:r>
                              <m:t xml:space="preserve">−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75</m:t>
                            </m:r>
                          </m:num>
                          <m:den>
                            <m:r>
                              <m:t xml:space="preserve">m</m:t>
                            </m:r>
                            <m:r>
                              <m:t xml:space="preserve">+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Shapes for normal plot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457200" y="4419720"/>
                <a:ext cx="78408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ote :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7" name=""/>
          <p:cNvSpPr/>
          <p:nvPr/>
        </p:nvSpPr>
        <p:spPr>
          <a:xfrm>
            <a:off x="6172200" y="630864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中大統計所</a:t>
            </a: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2003/09/2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467480" y="1752480"/>
            <a:ext cx="121932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Times New Roman"/>
              </a:rPr>
              <a:t>Fig. 2A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Times New Roman"/>
              </a:rPr>
              <a:t>Fig. 2A.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Times New Roman"/>
              </a:rPr>
              <a:t>Fig. 2A.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Times New Roman"/>
              </a:rPr>
              <a:t>Fig. 2A.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610480" y="1828800"/>
            <a:ext cx="312840" cy="312840"/>
          </a:xfrm>
          <a:custGeom>
            <a:avLst/>
            <a:gdLst>
              <a:gd name="textAreaLeft" fmla="*/ 20160 w 312840"/>
              <a:gd name="textAreaRight" fmla="*/ 292680 w 312840"/>
              <a:gd name="textAreaTop" fmla="*/ 20160 h 312840"/>
              <a:gd name="textAreaBottom" fmla="*/ 292680 h 312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610480" y="2286000"/>
            <a:ext cx="312840" cy="312840"/>
          </a:xfrm>
          <a:custGeom>
            <a:avLst/>
            <a:gdLst>
              <a:gd name="textAreaLeft" fmla="*/ 20160 w 312840"/>
              <a:gd name="textAreaRight" fmla="*/ 292680 w 312840"/>
              <a:gd name="textAreaTop" fmla="*/ 20160 h 312840"/>
              <a:gd name="textAreaBottom" fmla="*/ 292680 h 312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610480" y="2743200"/>
            <a:ext cx="312840" cy="312840"/>
          </a:xfrm>
          <a:custGeom>
            <a:avLst/>
            <a:gdLst>
              <a:gd name="textAreaLeft" fmla="*/ 20160 w 312840"/>
              <a:gd name="textAreaRight" fmla="*/ 292680 w 312840"/>
              <a:gd name="textAreaTop" fmla="*/ 20160 h 312840"/>
              <a:gd name="textAreaBottom" fmla="*/ 292680 h 312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610480" y="3200400"/>
            <a:ext cx="312840" cy="312840"/>
          </a:xfrm>
          <a:custGeom>
            <a:avLst/>
            <a:gdLst>
              <a:gd name="textAreaLeft" fmla="*/ 20160 w 312840"/>
              <a:gd name="textAreaRight" fmla="*/ 292680 w 312840"/>
              <a:gd name="textAreaTop" fmla="*/ 20160 h 312840"/>
              <a:gd name="textAreaBottom" fmla="*/ 292680 h 312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Normal Plot-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1523880" y="3325680"/>
                <a:ext cx="3354480" cy="177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Example 1 : Steam dat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Fig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2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Example 1 : Lack of fit dat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Fig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2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6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1523880" y="1600200"/>
                <a:ext cx="40878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Let  </m:t>
                        </m:r>
                        <m:sSubSup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/>
                        </m:sSubSup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Y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, </m:t>
                        </m:r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,2</m:t>
                        </m:r>
                        <m:r>
                          <m:t xml:space="preserve">,</m:t>
                        </m:r>
                        <m:r>
                          <m:t xml:space="preserve">⋯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lot normal score of </m:t>
                        </m:r>
                        <m:sSubSup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/>
                        </m:sSubSup>
                        <m:r>
                          <m:rPr>
                            <m:lit/>
                            <m:nor/>
                          </m:rPr>
                          <m:t xml:space="preserve"> against </m:t>
                        </m:r>
                        <m:sSubSup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/>
                        </m:sSub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6" name=""/>
          <p:cNvSpPr/>
          <p:nvPr/>
        </p:nvSpPr>
        <p:spPr>
          <a:xfrm>
            <a:off x="6172200" y="630864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中大統計所</a:t>
            </a: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2003/09/2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819520" y="3733920"/>
            <a:ext cx="13158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Times New Roman"/>
              </a:rPr>
              <a:t>Fig.2A.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86200" y="3809880"/>
            <a:ext cx="312840" cy="312840"/>
          </a:xfrm>
          <a:custGeom>
            <a:avLst/>
            <a:gdLst>
              <a:gd name="textAreaLeft" fmla="*/ 20160 w 312840"/>
              <a:gd name="textAreaRight" fmla="*/ 292680 w 312840"/>
              <a:gd name="textAreaTop" fmla="*/ 20160 h 312840"/>
              <a:gd name="textAreaBottom" fmla="*/ 292680 h 312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819520" y="4648320"/>
            <a:ext cx="11635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Times New Roman"/>
              </a:rPr>
              <a:t>Fig.2A.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86200" y="4724280"/>
            <a:ext cx="312840" cy="312840"/>
          </a:xfrm>
          <a:custGeom>
            <a:avLst/>
            <a:gdLst>
              <a:gd name="textAreaLeft" fmla="*/ 20160 w 312840"/>
              <a:gd name="textAreaRight" fmla="*/ 292680 w 312840"/>
              <a:gd name="textAreaTop" fmla="*/ 20160 h 312840"/>
              <a:gd name="textAreaBottom" fmla="*/ 292680 h 312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Residual Plo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1206360" y="1955880"/>
                <a:ext cx="7340760" cy="386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General checking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            plot  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i</m:t>
                                </m:r>
                              </m:sup>
                            </m:sSup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Y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  against  {</m:t>
                            </m:r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eqArr>
                    <m:r>
                      <m:rPr>
                        <m:lit/>
                        <m:nor/>
                      </m:rPr>
                      <m:t xml:space="preserve">                      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Fig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 , Table 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          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Residual  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i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 is correlated to 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           The LSE fit of 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i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 against  {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Y</m:t>
                        </m:r>
                      </m:e>
                    </m:acc>
                    <m:sSub>
                      <m:e/>
                      <m:sub>
                        <m:r>
                          <m:t xml:space="preserve">i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produces</m:t>
                    </m:r>
                    <m:r>
                      <m:rPr>
                        <m:lit/>
                        <m:nor/>
                      </m:rPr>
                      <m:t xml:space="preserve">             a slope of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        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i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 against  {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Y</m:t>
                        </m:r>
                      </m:e>
                    </m:acc>
                    <m:sSub>
                      <m:e/>
                      <m:sub>
                        <m:r>
                          <m:t xml:space="preserve">i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produces a series of lines with slope 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        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References in section 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 is helpful for formal tests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1120680" y="3379680"/>
                <a:ext cx="784440" cy="35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ote :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4" name=""/>
          <p:cNvSpPr/>
          <p:nvPr/>
        </p:nvSpPr>
        <p:spPr>
          <a:xfrm>
            <a:off x="6172200" y="630864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中大統計所</a:t>
            </a: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2003/09/2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04920" y="5943600"/>
            <a:ext cx="39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 u="sng">
                <a:solidFill>
                  <a:srgbClr val="ccccff"/>
                </a:solidFill>
                <a:uFillTx/>
                <a:latin typeface="Times New Roman"/>
                <a:hlinkClick r:id="rId1" action="ppaction://hlinksldjump"/>
              </a:rPr>
              <a:t>Fig2.6   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TW" sz="24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table2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Residual Plots-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1776240" y="2057400"/>
                <a:ext cx="3456000" cy="177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Example 1 : Steam dat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Fig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7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Example 1 : Lack of fit dat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Fig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 , Fig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9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8" name=""/>
          <p:cNvSpPr/>
          <p:nvPr/>
        </p:nvSpPr>
        <p:spPr>
          <a:xfrm>
            <a:off x="6172200" y="630864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中大統計所</a:t>
            </a: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2003/09/2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426708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g2.7    2.8     2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Durbin-Watson te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2104920" y="1676520"/>
                <a:ext cx="5362560" cy="465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etection of 1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st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order autocorrel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</m:t>
                        </m:r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ρε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-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, </m:t>
                        </m:r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1,2</m:t>
                        </m:r>
                        <m:r>
                          <m:t xml:space="preserve">,</m:t>
                        </m:r>
                        <m:r>
                          <m:t xml:space="preserve">⋯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where  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  <m:r>
                          <m:rPr>
                            <m:lit/>
                            <m:nor/>
                          </m:rPr>
                          <m:t xml:space="preserve">iid</m:t>
                        </m:r>
                        <m:r>
                          <m:t xml:space="preserve">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  <m:sSubSup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u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</m:t>
                        </m:r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sSup>
                              <m:e>
                                <m:r>
                                  <m:t xml:space="preserve">ρ</m:t>
                                </m:r>
                              </m:e>
                              <m:sup>
                                <m:r>
                                  <m:t xml:space="preserve">j</m:t>
                                </m:r>
                              </m:sup>
                            </m:sSup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nary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</m:t>
                        </m:r>
                        <m:r>
                          <m:t xml:space="preserve">E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ε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</m:t>
                        </m:r>
                        <m:r>
                          <m:rPr>
                            <m:lit/>
                            <m:nor/>
                          </m:rPr>
                          <m:t xml:space="preserve">Var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ε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sSup>
                              <m:e>
                                <m:r>
                                  <m:t xml:space="preserve">ρ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  <m:r>
                                  <m:t xml:space="preserve">j</m:t>
                                </m:r>
                              </m:sup>
                            </m:sSup>
                          </m:e>
                        </m:nary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ρ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and   </m:t>
                        </m:r>
                        <m:r>
                          <m:rPr>
                            <m:lit/>
                            <m:nor/>
                          </m:rPr>
                          <m:t xml:space="preserve">Cov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ε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ε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p>
                          <m:e>
                            <m:r>
                              <m:t xml:space="preserve">ρ</m:t>
                            </m:r>
                          </m:e>
                          <m:sup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j</m:t>
                                </m:r>
                              </m:e>
                            </m:d>
                          </m:sup>
                        </m:sSup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ρ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2438280" y="3379680"/>
                <a:ext cx="784440" cy="35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ote :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3" name=""/>
          <p:cNvSpPr/>
          <p:nvPr/>
        </p:nvSpPr>
        <p:spPr>
          <a:xfrm>
            <a:off x="6172200" y="630864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中大統計所</a:t>
            </a: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2003/10/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Durbin-Watson te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1676520" y="1523880"/>
                <a:ext cx="6248160" cy="477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The Durbin-Watson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D-W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test is designed to test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: </m:t>
                        </m:r>
                        <m:r>
                          <m:t xml:space="preserve">ρ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   v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: </m:t>
                        </m:r>
                        <m:r>
                          <m:t xml:space="preserve">ρ</m:t>
                        </m:r>
                        <m:r>
                          <m:t xml:space="preserve">&gt;</m:t>
                        </m:r>
                        <m:r>
                          <m:t xml:space="preserve">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he D-W statistic is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</m:t>
                        </m:r>
                        <m:r>
                          <m:t xml:space="preserve">d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t</m:t>
                            </m:r>
                            <m:r>
                              <m:t xml:space="preserve">=</m:t>
                            </m:r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e</m:t>
                                        </m:r>
                                      </m:e>
                                      <m:sub>
                                        <m:r>
                                          <m:t xml:space="preserve">t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e</m:t>
                                        </m:r>
                                      </m:e>
                                      <m:sub>
                                        <m:r>
                                          <m:t xml:space="preserve">t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t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Sup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d</m:t>
                        </m:r>
                        <m:r>
                          <m:rPr>
                            <m:lit/>
                            <m:nor/>
                          </m:rPr>
                          <m:t xml:space="preserve"> is symmetric about 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 if </m:t>
                        </m:r>
                        <m:r>
                          <m:t xml:space="preserve">ρ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d</m:t>
                        </m:r>
                        <m:r>
                          <m:t xml:space="preserve">≈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 if </m:t>
                        </m:r>
                        <m:r>
                          <m:t xml:space="preserve">ρ</m:t>
                        </m:r>
                        <m:r>
                          <m:t xml:space="preserve">&gt;</m:t>
                        </m:r>
                        <m:r>
                          <m:t xml:space="preserve">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</m:t>
                        </m:r>
                        <m:r>
                          <m:t xml:space="preserve">≈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  if </m:t>
                        </m:r>
                        <m:r>
                          <m:t xml:space="preserve">ρ</m:t>
                        </m:r>
                        <m:r>
                          <m:t xml:space="preserve">&lt;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or </m:t>
                            </m:r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-d</m:t>
                            </m:r>
                            <m:r>
                              <m:t xml:space="preserve">≈</m:t>
                            </m:r>
                            <m:r>
                              <m:t xml:space="preserve">0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1523880" y="4979880"/>
                <a:ext cx="784440" cy="35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ote :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7" name=""/>
          <p:cNvSpPr/>
          <p:nvPr/>
        </p:nvSpPr>
        <p:spPr>
          <a:xfrm>
            <a:off x="6172200" y="630864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中大統計所</a:t>
            </a: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2003/10/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Durbin-Watson te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1828800" y="1676520"/>
                <a:ext cx="6197760" cy="320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Reject 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: </m:t>
                        </m:r>
                        <m:r>
                          <m:t xml:space="preserve">ρ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Conclude  </m:t>
                        </m:r>
                        <m:r>
                          <m:t xml:space="preserve">ρ</m:t>
                        </m:r>
                        <m:r>
                          <m:t xml:space="preserve">&gt;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  if  </m:t>
                        </m:r>
                        <m:r>
                          <m:t xml:space="preserve">d</m:t>
                        </m:r>
                        <m:r>
                          <m:t xml:space="preserve">&lt;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Conclude  </m:t>
                        </m:r>
                        <m:r>
                          <m:t xml:space="preserve">ρ</m:t>
                        </m:r>
                        <m:r>
                          <m:t xml:space="preserve">&lt;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  if  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-d</m:t>
                        </m:r>
                        <m:r>
                          <m:t xml:space="preserve">&lt;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ot reject 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: </m:t>
                        </m:r>
                        <m:r>
                          <m:t xml:space="preserve">ρ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  if  </m:t>
                        </m:r>
                        <m:r>
                          <m:t xml:space="preserve">d</m:t>
                        </m:r>
                        <m:r>
                          <m:t xml:space="preserve">&gt;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or  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-d</m:t>
                        </m:r>
                        <m:r>
                          <m:t xml:space="preserve">&gt;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eclare test inconclusive  if 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&lt;</m:t>
                        </m:r>
                        <m:r>
                          <m:t xml:space="preserve">d</m:t>
                        </m:r>
                        <m:r>
                          <m:t xml:space="preserve">&lt;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Table 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 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and 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for </m:t>
                        </m:r>
                        <m:r>
                          <m:t xml:space="preserve">α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1</m:t>
                        </m:r>
                        <m:r>
                          <m:t xml:space="preserve">,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25</m:t>
                        </m:r>
                        <m:r>
                          <m:rPr>
                            <m:lit/>
                            <m:nor/>
                          </m:rPr>
                          <m:t xml:space="preserve"> and 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0" name=""/>
          <p:cNvSpPr/>
          <p:nvPr/>
        </p:nvSpPr>
        <p:spPr>
          <a:xfrm>
            <a:off x="6172200" y="630864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中大統計所</a:t>
            </a: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2003/10/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figure2a.1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1066680"/>
            <a:ext cx="9144000" cy="425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4T08:35:43Z</dcterms:created>
  <dc:creator>user</dc:creator>
  <dc:description/>
  <dc:language>en-US</dc:language>
  <cp:lastModifiedBy>stat</cp:lastModifiedBy>
  <dcterms:modified xsi:type="dcterms:W3CDTF">2003-10-07T01:17:55Z</dcterms:modified>
  <cp:revision>11</cp:revision>
  <dc:subject/>
  <dc:title>PowerPoint 簡報</dc:title>
</cp:coreProperties>
</file>