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8.jpeg" ContentType="image/jpe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32.jpeg" ContentType="image/jpeg"/>
  <Override PartName="/ppt/media/image10.wmf" ContentType="image/x-wmf"/>
  <Override PartName="/ppt/media/image31.jpeg" ContentType="image/jpeg"/>
  <Override PartName="/ppt/media/image30.jpeg" ContentType="image/jpeg"/>
  <Override PartName="/ppt/media/image7.wmf" ContentType="image/x-wmf"/>
  <Override PartName="/ppt/media/image12.wmf" ContentType="image/x-wmf"/>
  <Override PartName="/ppt/media/image9.wmf" ContentType="image/x-wmf"/>
  <Override PartName="/ppt/media/image8.wmf" ContentType="image/x-wmf"/>
  <Override PartName="/ppt/media/image37.jpeg" ContentType="image/jpeg"/>
  <Override PartName="/ppt/media/image33.jpeg" ContentType="image/jpeg"/>
  <Override PartName="/ppt/media/image5.wmf" ContentType="image/x-wmf"/>
  <Override PartName="/ppt/media/image6.wmf" ContentType="image/x-wmf"/>
  <Override PartName="/ppt/media/image11.wmf" ContentType="image/x-wmf"/>
  <Override PartName="/ppt/media/image34.jpeg" ContentType="image/jpeg"/>
  <Override PartName="/ppt/media/image35.jpeg" ContentType="image/jpeg"/>
  <Override PartName="/ppt/media/image27.jpeg" ContentType="image/jpeg"/>
  <Override PartName="/ppt/media/image13.wmf" ContentType="image/x-wmf"/>
  <Override PartName="/ppt/media/image4.wmf" ContentType="image/x-wmf"/>
  <Override PartName="/ppt/media/image29.jpeg" ContentType="image/jpeg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3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6B3D-6D43-4D83-A66C-7C39D9414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4313-8DD2-4C6A-9D2F-45F3C1350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FB8C-833B-4E8F-8561-C6B22396B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372F-C29C-48F4-8CDF-A125F0494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86F8-FBA8-4D5A-BE29-A06A42572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6101-99F8-4DFB-BD1A-098B08A72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9800-2317-463A-A4C8-C385106A4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04C1-F91B-4638-83A3-374402311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5898-D1F7-444E-9B67-99C7EEC14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A147-3ADB-4E3A-9481-43E117AAA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B86F-ED68-43CF-B51D-A9AA5850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463F-2A0F-46FE-B689-EB7827709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82EB3-D93D-4ACE-918A-F2AB5B19AAE1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image" Target="../media/image21.wmf"/><Relationship Id="rId8" Type="http://schemas.openxmlformats.org/officeDocument/2006/relationships/image" Target="../media/image22.wmf"/><Relationship Id="rId9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8.xml"/><Relationship Id="rId3" Type="http://schemas.openxmlformats.org/officeDocument/2006/relationships/slide" Target="slide31.xml"/><Relationship Id="rId4" Type="http://schemas.openxmlformats.org/officeDocument/2006/relationships/slide" Target="slide29.xml"/><Relationship Id="rId5" Type="http://schemas.openxmlformats.org/officeDocument/2006/relationships/slide" Target="slide30.xm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pplied Regression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437920"/>
            <a:ext cx="647712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6ff"/>
                </a:solidFill>
                <a:latin typeface="Times New Roman"/>
              </a:rPr>
              <a:t>Draper N. R. and Smith, 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66ff"/>
                </a:solidFill>
                <a:latin typeface="Times New Roman"/>
              </a:rPr>
              <a:t>Instructor: Yuh-Ing C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Times New Roman"/>
              </a:rPr>
              <a:t>2003/9/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More on L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1. The LS line goes thro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Remove       from the model by centering th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5105520" y="1676520"/>
                <a:ext cx="88560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2971800" y="2133720"/>
                <a:ext cx="380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695600" y="2666880"/>
                <a:ext cx="6305400" cy="19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sSubSup>
                          <m:e>
                            <m:eqArr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  <m:r>
                                  <m:t xml:space="preserve">=</m:t>
                                </m:r>
                                <m:sSub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ε</m:t>
                                </m:r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    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  <m:r>
                                  <m:t xml:space="preserve">)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  <m:r>
                                  <m:t xml:space="preserve">)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ε</m:t>
                                </m:r>
                              </m:e>
                              <m:e>
                                <m:r>
                                  <m:t xml:space="preserve">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  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=</m:t>
                                </m:r>
                                <m:sSubSup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ε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,</m:t>
                                </m:r>
                              </m:e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where 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  <m:r>
                                  <m:rPr>
                                    <m:lit/>
                                    <m:nor/>
                                  </m:rPr>
                                  <m:t xml:space="preserve"> ,  {</m:t>
                                </m:r>
                                <m:r>
                                  <m:t xml:space="preserve">β</m:t>
                                </m:r>
                              </m:e>
                            </m:eqAr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and  {</m:t>
                        </m:r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aphicFrame>
        <p:nvGraphicFramePr>
          <p:cNvPr id="96" name=""/>
          <p:cNvGraphicFramePr/>
          <p:nvPr/>
        </p:nvGraphicFramePr>
        <p:xfrm>
          <a:off x="1539720" y="4700520"/>
          <a:ext cx="6626520" cy="139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9720" y="4700520"/>
                    <a:ext cx="6626520" cy="13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5867280" y="60800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33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3300"/>
                </a:solidFill>
                <a:latin typeface="Times New Roman"/>
              </a:rPr>
              <a:t>2003/09/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Analysis of Vari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Note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Sum of squares          Sum of squares           Sum of squares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about the mean          due to regression         about reg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(Corrected S.S.) = (Regression S.S) + (Residual S.S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3300"/>
                </a:solidFill>
                <a:latin typeface="Times New Roman"/>
              </a:rPr>
              <a:t>中大統計所 </a:t>
            </a:r>
            <a:r>
              <a:rPr b="0" lang="zh-TW" sz="2000" spc="-1" strike="noStrike">
                <a:solidFill>
                  <a:srgbClr val="ff3300"/>
                </a:solidFill>
                <a:latin typeface="Times New Roman"/>
              </a:rPr>
              <a:t>2003/09/12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828800" y="1905120"/>
                <a:ext cx="320976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676520" y="2438280"/>
                <a:ext cx="29494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676520" y="3048120"/>
                <a:ext cx="52369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914400" y="3886200"/>
                <a:ext cx="4935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819520" y="3886200"/>
                <a:ext cx="49680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 flipH="1">
            <a:off x="2362320" y="350532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200400" y="3886200"/>
                <a:ext cx="8352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(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5638680" y="3886200"/>
                <a:ext cx="49716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6019920" y="3886200"/>
                <a:ext cx="7966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(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8305920" y="3886200"/>
                <a:ext cx="49680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4648320" y="35053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400800" y="35053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429240" y="1957320"/>
            <a:ext cx="1165320" cy="405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6391440" y="2286000"/>
            <a:ext cx="1393560" cy="4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5460840" cy="914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244520" y="1676520"/>
            <a:ext cx="6527880" cy="2184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990720" y="4114800"/>
            <a:ext cx="5765760" cy="8636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486400" y="56815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33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3300"/>
                </a:solidFill>
                <a:latin typeface="Times New Roman"/>
              </a:rPr>
              <a:t>2003/09/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Example-ANOV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523880" y="1295280"/>
                <a:ext cx="149724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am Dat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523880" y="1676520"/>
                <a:ext cx="5819760" cy="42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7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280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715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92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rrected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28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02-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3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60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158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sidual 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158-4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924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234</m:t>
                        </m:r>
                      </m:e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ble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5486400" y="56815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33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3300"/>
                </a:solidFill>
                <a:latin typeface="Times New Roman"/>
              </a:rPr>
              <a:t>2003/09/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R   statist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754080" y="8618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614600" y="1754280"/>
          <a:ext cx="3728880" cy="109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4600" y="1754280"/>
                    <a:ext cx="3728880" cy="10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1676520" y="30481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efficient of deter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76520" y="35812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quare of multiple correlation coeffic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676520" y="41148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2057400" y="4114800"/>
                <a:ext cx="58658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roportion of total variation about  {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explained </m:t>
                        </m:r>
                      </m:e>
                    </m:eqArr>
                    <m:r>
                      <m:rPr>
                        <m:lit/>
                        <m:nor/>
                      </m:rPr>
                      <m:t xml:space="preserve">by the regressio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778040" y="5029200"/>
                <a:ext cx="576576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am data   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92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15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144</m:t>
                    </m:r>
                    <m:r>
                      <m:rPr>
                        <m:lit/>
                        <m:nor/>
                      </m:rPr>
                      <m:t xml:space="preserve"> or 7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4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5486400" y="592776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33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3300"/>
                </a:solidFill>
                <a:latin typeface="Times New Roman"/>
              </a:rPr>
              <a:t>2003/09/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66"/>
                </a:solidFill>
                <a:latin typeface="Times New Roman"/>
              </a:rPr>
              <a:t>Confidence intervals and tests for regression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~Nor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~ i.i.d N(                       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Fig 1.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3300"/>
                </a:solidFill>
                <a:latin typeface="Times New Roman"/>
              </a:rPr>
              <a:t>中大統計所 </a:t>
            </a:r>
            <a:r>
              <a:rPr b="0" lang="zh-TW" sz="2000" spc="-1" strike="noStrike">
                <a:solidFill>
                  <a:srgbClr val="ff3300"/>
                </a:solidFill>
                <a:latin typeface="Times New Roman"/>
              </a:rPr>
              <a:t>2003/09/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609480" y="2133720"/>
                <a:ext cx="3429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4952880" y="2286000"/>
                <a:ext cx="160020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066680" y="3048120"/>
                <a:ext cx="14479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666880" y="3048120"/>
                <a:ext cx="1905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1066680" y="3657600"/>
                <a:ext cx="228600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v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3657600" y="3733920"/>
                <a:ext cx="160020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≠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990720" y="4105440"/>
                <a:ext cx="39528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57200" y="4710240"/>
                <a:ext cx="91440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743200" y="4702320"/>
                <a:ext cx="205740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5562720" y="4800600"/>
                <a:ext cx="160020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Inference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3300"/>
                </a:solidFill>
                <a:latin typeface="Times New Roman"/>
              </a:rPr>
              <a:t>中大統計所 </a:t>
            </a:r>
            <a:r>
              <a:rPr b="0" lang="zh-TW" sz="2000" spc="-1" strike="noStrike">
                <a:solidFill>
                  <a:srgbClr val="ff3300"/>
                </a:solidFill>
                <a:latin typeface="Times New Roman"/>
              </a:rPr>
              <a:t>2003/09/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502160" y="3295800"/>
            <a:ext cx="139680" cy="2664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4766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886200" y="838080"/>
            <a:ext cx="598320" cy="6858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685800" y="1971720"/>
            <a:ext cx="457200" cy="5428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1676520" y="2023920"/>
            <a:ext cx="4419360" cy="567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1676520" y="2514600"/>
            <a:ext cx="5105160" cy="5335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6"/>
          <a:stretch/>
        </p:blipFill>
        <p:spPr>
          <a:xfrm>
            <a:off x="1981080" y="3581280"/>
            <a:ext cx="3505320" cy="4557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7"/>
          <a:stretch/>
        </p:blipFill>
        <p:spPr>
          <a:xfrm>
            <a:off x="5715000" y="3571920"/>
            <a:ext cx="1676520" cy="3906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8"/>
          <a:stretch/>
        </p:blipFill>
        <p:spPr>
          <a:xfrm>
            <a:off x="533520" y="4243320"/>
            <a:ext cx="7924680" cy="480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609480" y="4952880"/>
                <a:ext cx="464832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Times New Roman"/>
              </a:rPr>
              <a:t>Note</a:t>
            </a:r>
            <a:r>
              <a:rPr b="0" lang="zh-TW" sz="3200" spc="-1" strike="noStrike">
                <a:solidFill>
                  <a:srgbClr val="cc0000"/>
                </a:solidFill>
                <a:latin typeface="Times New Roman"/>
              </a:rPr>
              <a:t>: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                  ,                    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So,     ~ Nor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with                 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Times New Roman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Where             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</a:t>
            </a:r>
            <a:r>
              <a:rPr b="0" lang="zh-TW" sz="2000" spc="-1" strike="noStrike">
                <a:solidFill>
                  <a:srgbClr val="ff3300"/>
                </a:solidFill>
                <a:latin typeface="Times New Roman"/>
              </a:rPr>
              <a:t>中大統計所 </a:t>
            </a:r>
            <a:r>
              <a:rPr b="0" lang="zh-TW" sz="2000" spc="-1" strike="noStrike">
                <a:solidFill>
                  <a:srgbClr val="ff3300"/>
                </a:solidFill>
                <a:latin typeface="Times New Roman"/>
              </a:rPr>
              <a:t>2003/09/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905120" y="685800"/>
                <a:ext cx="1523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749760" y="730080"/>
                <a:ext cx="179532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6516720" y="762120"/>
                <a:ext cx="16970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x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1447920" y="1828800"/>
                <a:ext cx="39672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828800" y="2900520"/>
                <a:ext cx="143352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4343400" y="2895480"/>
                <a:ext cx="22096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/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828800" y="3962520"/>
                <a:ext cx="22096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/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x</m:t>
                            </m:r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5048280"/>
                <a:ext cx="106704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505320" y="5105520"/>
                <a:ext cx="3619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</m:e>
                    </m:nary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/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Inference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Confidence interval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Where                              is the                   percentage 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of  a  t-distribution with  d.f  n-2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Test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Reject                       in favor of                       at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3300"/>
                </a:solidFill>
                <a:latin typeface="Times New Roman"/>
              </a:rPr>
              <a:t>中大統計所 </a:t>
            </a:r>
            <a:r>
              <a:rPr b="0" lang="zh-TW" sz="2000" spc="-1" strike="noStrike">
                <a:solidFill>
                  <a:srgbClr val="ff3300"/>
                </a:solidFill>
                <a:latin typeface="Times New Roman"/>
              </a:rPr>
              <a:t>2003/09/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4038480" y="609480"/>
                <a:ext cx="5986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4114800" y="1371600"/>
                <a:ext cx="5875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371600" y="2000160"/>
                <a:ext cx="50292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±</m:t>
                    </m:r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,1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/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676520" y="2666880"/>
                <a:ext cx="190476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,1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/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4648320" y="2705040"/>
                <a:ext cx="102852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/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362320" y="3429000"/>
                <a:ext cx="1523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1219320" y="4038480"/>
                <a:ext cx="37335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676520" y="4648320"/>
                <a:ext cx="1523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4724280" y="4648320"/>
                <a:ext cx="12956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≠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6705720" y="4695840"/>
                <a:ext cx="91440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371600" y="5105520"/>
            <a:ext cx="35812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Example-inference fo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Steam data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n=25,         = -0.0798,                      =0.01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t(23,0.975) =2.06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The 95% confidence limits for        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or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or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Test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-0.0798/0.010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-7.6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Since                                                 reject         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3300"/>
                </a:solidFill>
                <a:latin typeface="Times New Roman"/>
              </a:rPr>
              <a:t>中大統計所 </a:t>
            </a:r>
            <a:r>
              <a:rPr b="0" lang="zh-TW" sz="2000" spc="-1" strike="noStrike">
                <a:solidFill>
                  <a:srgbClr val="ff3300"/>
                </a:solidFill>
                <a:latin typeface="Times New Roman"/>
              </a:rPr>
              <a:t>2003/09/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724280" y="533520"/>
            <a:ext cx="598680" cy="6094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3048120" y="1295280"/>
            <a:ext cx="338040" cy="3938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4876920" y="1258920"/>
            <a:ext cx="914400" cy="4935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1219320" y="1800360"/>
            <a:ext cx="914400" cy="2570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5"/>
          <a:stretch/>
        </p:blipFill>
        <p:spPr>
          <a:xfrm>
            <a:off x="5037120" y="2057400"/>
            <a:ext cx="449280" cy="45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1219320" y="2666880"/>
                <a:ext cx="419076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±</m:t>
                    </m:r>
                    <m:r>
                      <m:t xml:space="preserve">t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7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s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1447920" y="3352680"/>
                <a:ext cx="275580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98</m:t>
                    </m:r>
                    <m:r>
                      <m:t xml:space="preserve">±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9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0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295280" y="3809880"/>
                <a:ext cx="358164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5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8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2247840" y="4114800"/>
                <a:ext cx="13334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1219320" y="4572000"/>
                <a:ext cx="25905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0</m:t>
                    </m:r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1523880" y="5791320"/>
                <a:ext cx="36576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&gt;</m:t>
                    </m:r>
                    <m:r>
                      <m:t xml:space="preserve">t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7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5943600" y="5764320"/>
                <a:ext cx="41904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7010280" y="5762520"/>
                <a:ext cx="914400" cy="2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Variab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Response variables = Y-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                                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= output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                                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= dependent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Predictor variables = X-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                               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= input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                               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= independent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= explanatory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3300"/>
                </a:solidFill>
                <a:latin typeface="Times New Roman"/>
              </a:rPr>
              <a:t>中大統計所 </a:t>
            </a:r>
            <a:r>
              <a:rPr b="0" lang="zh-TW" sz="2000" spc="-1" strike="noStrike">
                <a:solidFill>
                  <a:srgbClr val="ff3300"/>
                </a:solidFill>
                <a:latin typeface="Times New Roman"/>
              </a:rPr>
              <a:t>2003/09/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Example - inference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Test of                             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Reject or not reject 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Test of                             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Reject or not reject 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Test of                              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Reject or not reject 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</a:t>
            </a:r>
            <a:r>
              <a:rPr b="0" lang="zh-TW" sz="2000" spc="-1" strike="noStrike">
                <a:solidFill>
                  <a:srgbClr val="ff3300"/>
                </a:solidFill>
                <a:latin typeface="Times New Roman"/>
              </a:rPr>
              <a:t>中大統計所 </a:t>
            </a:r>
            <a:r>
              <a:rPr b="0" lang="zh-TW" sz="2000" spc="-1" strike="noStrike">
                <a:solidFill>
                  <a:srgbClr val="ff3300"/>
                </a:solidFill>
                <a:latin typeface="Times New Roman"/>
              </a:rPr>
              <a:t>2003/09/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5257800" y="457200"/>
                <a:ext cx="5983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2162160" y="1349280"/>
                <a:ext cx="195264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4724280" y="1419120"/>
                <a:ext cx="914400" cy="2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2305080" y="2514600"/>
                <a:ext cx="176040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4724280" y="2562120"/>
                <a:ext cx="914400" cy="2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2209680" y="4114800"/>
                <a:ext cx="195264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4724280" y="4191120"/>
                <a:ext cx="91440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2722680" y="264960"/>
                <a:ext cx="30891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ference for 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1295280" y="990720"/>
                <a:ext cx="5453280" cy="13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)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 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, i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,2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,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369720" y="2362320"/>
                <a:ext cx="84960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te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1265400" y="2031840"/>
                <a:ext cx="6811920" cy="223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, 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nd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Sup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=</m:t>
                                </m:r>
                              </m:e>
                            </m:nary>
                          </m:e>
                        </m:nary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/n</m:t>
                            </m:r>
                          </m:e>
                        </m:nary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o,   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and</m:t>
                        </m:r>
                        <m:r>
                          <m:rPr>
                            <m:lit/>
                            <m:nor/>
                          </m:rPr>
                          <m:t xml:space="preserve"> s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s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rPr>
                                    <m:lit/>
                                    <m:nor/>
                                  </m:rPr>
                                  <m:t xml:space="preserve">/n</m:t>
                                </m:r>
                              </m:e>
                            </m:nary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1076400" y="4213080"/>
                <a:ext cx="6772320" cy="21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 100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-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% 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I for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   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±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,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0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e</m:t>
                            </m:r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≥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,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, then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ject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: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in favor of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: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≠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under </m:t>
                        </m:r>
                        <m:r>
                          <m:t xml:space="preserve">α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685800" y="6094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Times New Roman"/>
              </a:rPr>
              <a:t>F-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1600200" y="1297080"/>
                <a:ext cx="6157800" cy="24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, then 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eg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sSubSup>
                          <m:e>
                            <m:r>
                              <m:t xml:space="preserve">χ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d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-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/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sSubSup>
                          <m:e>
                            <m:r>
                              <m:t xml:space="preserve">χ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o, if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, then 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g</m:t>
                            </m:r>
                          </m:sub>
                        </m:sSub>
                        <m:r>
                          <m:t xml:space="preserve">/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under α 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1600200" y="3962520"/>
                <a:ext cx="495288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  <m:r>
                          <m:rPr>
                            <m:lit/>
                            <m:nor/>
                          </m:rPr>
                          <m:t xml:space="preserve"> compute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-valu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  <m:r>
                              <m:t xml:space="preserve">)</m:t>
                            </m:r>
                            <m:r>
                              <m:t xml:space="preserve">&gt;</m:t>
                            </m:r>
                            <m:r>
                              <m:t xml:space="preserve">F</m:t>
                            </m:r>
                          </m:e>
                        </m:d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is the observed F valu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Times New Roman"/>
              </a:rPr>
              <a:t>Example F-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838080" y="1447920"/>
                <a:ext cx="601992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team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rPr>
                            <m:lit/>
                            <m:nor/>
                          </m:rPr>
                          <m:t xml:space="preserve">dat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  <m:r>
                          <m:rPr>
                            <m:lit/>
                            <m:nor/>
                          </m:rPr>
                          <m:t xml:space="preserve"> 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924/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923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t xml:space="preserve">&gt;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,23,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: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is rejected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In fact,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-valv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  <m:r>
                              <m:t xml:space="preserve">)</m:t>
                            </m:r>
                            <m:r>
                              <m:t xml:space="preserve">&gt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4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0</m:t>
                        </m:r>
                        <m:r>
                          <m:t xml:space="preserve">(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609480" y="3200400"/>
                <a:ext cx="121932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te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800280" y="3809880"/>
                <a:ext cx="59814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ν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t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ν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o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p-value of the F-test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-value of th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wo-sided t-tes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685800" y="304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orrelation between X and 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447920" y="993600"/>
                <a:ext cx="4595760" cy="136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earson   correlation    coefficien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v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var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var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)</m:t>
                                </m:r>
                              </m:e>
                            </m:rad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-1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1447920" y="2362320"/>
                <a:ext cx="4978440" cy="14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ample  correlation  coefficien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  <m:r>
                                  <m:t xml:space="preserve">)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</m:e>
                            </m:nary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nary>
                                      <m:naryPr>
                                        <m:chr m:val="∑"/>
                                        <m:subHide m:val="1"/>
                                        <m:supHide m:val="1"/>
                                      </m:naryPr>
                                      <m:sub/>
                                      <m:sup/>
                                      <m:e>
                                        <m:r>
                                          <m:t xml:space="preserve">(</m:t>
                                        </m:r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</m:acc>
                                        <m:sSup>
                                          <m:e>
                                            <m:r>
                                              <m:t xml:space="preserve">)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e>
                                    </m:nary>
                                  </m:e>
                                </m:nary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y</m:t>
                                </m:r>
                              </m:sub>
                            </m:sSub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xx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yy</m:t>
                                    </m:r>
                                  </m:sub>
                                </m:sSub>
                              </m:e>
                            </m:ra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380880" y="3962520"/>
                <a:ext cx="80964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te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1347840" y="3733920"/>
                <a:ext cx="4246560" cy="21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x</m:t>
                                </m:r>
                              </m:sub>
                            </m:sSub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xx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yy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xx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yy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yy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xx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1295280" y="5838840"/>
                <a:ext cx="470556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      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y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y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6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Test for corre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762120" y="990720"/>
                <a:ext cx="370512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Fisher's  Z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transformatio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2286000" y="1371600"/>
                <a:ext cx="45482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h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ρ</m:t>
                        </m:r>
                        <m:r>
                          <m:rPr>
                            <m:lit/>
                            <m:nor/>
                          </m:rPr>
                          <m:t xml:space="preserve"> ,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723960" y="2286000"/>
                <a:ext cx="690732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An approximate 100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-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for </m:t>
                        </m:r>
                        <m:r>
                          <m:t xml:space="preserve">ρ</m:t>
                        </m:r>
                        <m:r>
                          <m:rPr>
                            <m:lit/>
                            <m:nor/>
                          </m:rPr>
                          <m:t xml:space="preserve"> is given by solvn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r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r</m:t>
                                </m:r>
                              </m:den>
                            </m:f>
                          </m:e>
                        </m:d>
                        <m:r>
                          <m:t xml:space="preserve">±</m:t>
                        </m:r>
                        <m:r>
                          <m:t xml:space="preserve">z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ρ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ρ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90720" y="3733920"/>
                <a:ext cx="6480000" cy="27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wo confidence limits for </m:t>
                        </m:r>
                        <m:r>
                          <m:t xml:space="preserve">ρ</m:t>
                        </m:r>
                        <m:r>
                          <m:rPr>
                            <m:lit/>
                            <m:nor/>
                          </m:rPr>
                          <m:t xml:space="preserve"> ar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and 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   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r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r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z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α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/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and   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r</m:t>
                                    </m:r>
                                  </m:num>
                                  <m:den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r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z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α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/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457200" y="635040"/>
                <a:ext cx="8305920" cy="30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 test of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ρ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is implemented by computin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rad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r</m:t>
                                    </m:r>
                                  </m:num>
                                  <m:den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r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Reject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i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  <m:r>
                          <m:t xml:space="preserve">&gt;</m:t>
                        </m:r>
                        <m:r>
                          <m:t xml:space="preserve">z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for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ρ</m:t>
                        </m:r>
                        <m:r>
                          <m:t xml:space="preserve">≠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or      Z</m:t>
                        </m:r>
                        <m:r>
                          <m:t xml:space="preserve">&gt;</m:t>
                        </m:r>
                        <m:r>
                          <m:t xml:space="preserve">z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</m:e>
                        </m:d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←</m:t>
                            </m:r>
                            <m:r>
                              <m:t xml:space="preserve">z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α</m:t>
                                </m:r>
                              </m:e>
                            </m:d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for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ρ</m:t>
                        </m:r>
                        <m:r>
                          <m:t xml:space="preserve">&gt;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:</m:t>
                            </m:r>
                            <m:r>
                              <m:t xml:space="preserve">ρ</m:t>
                            </m:r>
                            <m:r>
                              <m:t xml:space="preserve">&lt;</m:t>
                            </m:r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09480" y="3886200"/>
                <a:ext cx="78444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te 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1419120" y="3886200"/>
                <a:ext cx="6658200" cy="17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testing of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ρ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, we can us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rad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and compare it to appropriate percentiles of 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6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Rema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1371600" y="1066680"/>
                <a:ext cx="4167360" cy="304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Sir Francis Galton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822-1911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1877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</m:t>
                        </m:r>
                        <m:r>
                          <m:t xml:space="preserve">reversion</m:t>
                        </m:r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1885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</m:t>
                        </m:r>
                        <m:r>
                          <m:t xml:space="preserve">regression</m:t>
                        </m:r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X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parent's heigh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Y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hild's heigh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1511280" y="4191120"/>
                <a:ext cx="55389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LS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Gauss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777-1855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before 180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or  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Legendre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752-1833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on 180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0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table1.1" descr=""/>
          <p:cNvPicPr/>
          <p:nvPr/>
        </p:nvPicPr>
        <p:blipFill>
          <a:blip r:embed="rId1"/>
          <a:stretch/>
        </p:blipFill>
        <p:spPr>
          <a:xfrm>
            <a:off x="914400" y="0"/>
            <a:ext cx="6799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figure1.2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479412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304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Example - Variab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69960" y="1185840"/>
            <a:ext cx="78645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e.g. 1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Y  =  Consumption (thousand dolla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=  Income (thousand dolla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e.g. 2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Y  =  tensile strength (g/cm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=  fiber content (g/cm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e.g. 3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. Y  =  man hou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=  order (thousand dolla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=  Sub-Company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e.g. 4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. Y  =  price of a house (thousand dolla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=  area of the house (m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=  location of the ho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=  Personal Net Income (thousand dolla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523880" y="2971800"/>
                <a:ext cx="430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1523880" y="3352680"/>
                <a:ext cx="457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1523880" y="4800600"/>
                <a:ext cx="4572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1523880" y="4038480"/>
                <a:ext cx="430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1523880" y="4419720"/>
                <a:ext cx="457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6392160" y="6019920"/>
            <a:ext cx="22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3300"/>
                </a:solidFill>
                <a:latin typeface="Times New Roman"/>
              </a:rPr>
              <a:t>中大統計所 </a:t>
            </a:r>
            <a:r>
              <a:rPr b="0" lang="zh-TW" sz="2000" spc="-1" strike="noStrike">
                <a:solidFill>
                  <a:srgbClr val="ff3300"/>
                </a:solidFill>
                <a:latin typeface="Times New Roman"/>
              </a:rPr>
              <a:t>2003/09/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figure1.3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figure1.4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0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figure1.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figure1.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table1.3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31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table1.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568760"/>
          </a:xfrm>
          <a:prstGeom prst="rect">
            <a:avLst/>
          </a:prstGeom>
          <a:ln w="0">
            <a:noFill/>
          </a:ln>
        </p:spPr>
      </p:pic>
      <p:pic>
        <p:nvPicPr>
          <p:cNvPr id="250" name="table1.5" descr=""/>
          <p:cNvPicPr/>
          <p:nvPr/>
        </p:nvPicPr>
        <p:blipFill>
          <a:blip r:embed="rId2"/>
          <a:stretch/>
        </p:blipFill>
        <p:spPr>
          <a:xfrm>
            <a:off x="0" y="4191120"/>
            <a:ext cx="9144000" cy="34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table1.6" descr="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figure1.8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498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392160" y="6172200"/>
            <a:ext cx="22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3300"/>
                </a:solidFill>
                <a:latin typeface="Times New Roman"/>
              </a:rPr>
              <a:t>中大統計所 </a:t>
            </a:r>
            <a:r>
              <a:rPr b="0" lang="zh-TW" sz="2000" spc="-1" strike="noStrike">
                <a:solidFill>
                  <a:srgbClr val="ff3300"/>
                </a:solidFill>
                <a:latin typeface="Times New Roman"/>
              </a:rPr>
              <a:t>2003/09/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304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Regression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69960" y="1033560"/>
            <a:ext cx="801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se variable = Model function + Random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1905120" y="1600200"/>
                <a:ext cx="457200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1822680" y="2209680"/>
            <a:ext cx="52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( A first – order linear regression model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20760" y="28195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1905120" y="2819520"/>
                <a:ext cx="407808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1823760" y="3429000"/>
            <a:ext cx="557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( A second – order linear regression model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449568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Note 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. Scatter plot of Y v.s. X  (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Table 1.1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&amp;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Fig. 1.4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Range or region of X  (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Fig. 1.2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&amp;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Fig. 1.3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392160" y="6172200"/>
            <a:ext cx="22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3300"/>
                </a:solidFill>
                <a:latin typeface="Times New Roman"/>
              </a:rPr>
              <a:t>中大統計所 </a:t>
            </a:r>
            <a:r>
              <a:rPr b="0" lang="zh-TW" sz="2000" spc="-1" strike="noStrike">
                <a:solidFill>
                  <a:srgbClr val="ff3300"/>
                </a:solidFill>
                <a:latin typeface="Times New Roman"/>
              </a:rPr>
              <a:t>2003/09/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304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Least Squares Estimation (LS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762120" y="1295280"/>
                <a:ext cx="7162560" cy="109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ata</m:t>
                        </m:r>
                        <m:r>
                          <m:t xml:space="preserve"> 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odel</m:t>
                        </m:r>
                        <m:r>
                          <m:t xml:space="preserve"> 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838080" y="2590920"/>
                <a:ext cx="615492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S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f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∧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∧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Fi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6" name=""/>
          <p:cNvGraphicFramePr/>
          <p:nvPr/>
        </p:nvGraphicFramePr>
        <p:xfrm>
          <a:off x="452520" y="3352680"/>
          <a:ext cx="7781760" cy="59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3352680"/>
                    <a:ext cx="7781760" cy="5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304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Derivation - L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92160" y="6172200"/>
            <a:ext cx="22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3300"/>
                </a:solidFill>
                <a:latin typeface="Times New Roman"/>
              </a:rPr>
              <a:t>中大統計所 </a:t>
            </a:r>
            <a:r>
              <a:rPr b="0" lang="zh-TW" sz="2000" spc="-1" strike="noStrike">
                <a:solidFill>
                  <a:srgbClr val="ff3300"/>
                </a:solidFill>
                <a:latin typeface="Times New Roman"/>
              </a:rPr>
              <a:t>2003/09/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4000" y="1143000"/>
            <a:ext cx="401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 of squares (SS) function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1828800" y="1676520"/>
                <a:ext cx="571500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808200" y="2819520"/>
                <a:ext cx="69181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∧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uch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that</m:t>
                    </m:r>
                    <m:r>
                      <m:t xml:space="preserve"> </m:t>
                    </m:r>
                    <m:r>
                      <m:t xml:space="preserve">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lim>
                    </m:limLow>
                    <m:r>
                      <m:t xml:space="preserve">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838080" y="3733920"/>
                <a:ext cx="4267440" cy="19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Derivation – LSE (cont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392160" y="6172200"/>
            <a:ext cx="22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3300"/>
                </a:solidFill>
                <a:latin typeface="Times New Roman"/>
              </a:rPr>
              <a:t>中大統計所 </a:t>
            </a:r>
            <a:r>
              <a:rPr b="0" lang="zh-TW" sz="2000" spc="-1" strike="noStrike">
                <a:solidFill>
                  <a:srgbClr val="ff3300"/>
                </a:solidFill>
                <a:latin typeface="Times New Roman"/>
              </a:rPr>
              <a:t>2003/09/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1000" y="838080"/>
            <a:ext cx="245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l equation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2819520" y="1219320"/>
                <a:ext cx="3429000" cy="16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62120" y="3124080"/>
            <a:ext cx="7619760" cy="25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392160" y="6172200"/>
            <a:ext cx="22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3300"/>
                </a:solidFill>
                <a:latin typeface="Times New Roman"/>
              </a:rPr>
              <a:t>中大統計所 </a:t>
            </a:r>
            <a:r>
              <a:rPr b="0" lang="zh-TW" sz="2000" spc="-1" strike="noStrike">
                <a:solidFill>
                  <a:srgbClr val="ff3300"/>
                </a:solidFill>
                <a:latin typeface="Times New Roman"/>
              </a:rPr>
              <a:t>2003/09/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0200" y="684360"/>
            <a:ext cx="101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Note 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801800" y="762120"/>
            <a:ext cx="46753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LSE-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022400" y="2282760"/>
            <a:ext cx="6521400" cy="106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038240" y="3305160"/>
            <a:ext cx="5362560" cy="1724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86" name=""/>
          <p:cNvGraphicFramePr/>
          <p:nvPr/>
        </p:nvGraphicFramePr>
        <p:xfrm>
          <a:off x="1066680" y="5072040"/>
          <a:ext cx="6266160" cy="14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5072040"/>
                    <a:ext cx="6266160" cy="14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990720" y="1295280"/>
          <a:ext cx="3022560" cy="91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90720" y="1295280"/>
                    <a:ext cx="30225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5638680" y="62326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33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3300"/>
                </a:solidFill>
                <a:latin typeface="Times New Roman"/>
              </a:rPr>
              <a:t>2003/09/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4T08:35:43Z</dcterms:created>
  <dc:creator>user</dc:creator>
  <dc:description/>
  <dc:language>en-US</dc:language>
  <cp:lastModifiedBy>stat</cp:lastModifiedBy>
  <dcterms:modified xsi:type="dcterms:W3CDTF">2003-09-30T01:14:03Z</dcterms:modified>
  <cp:revision>23</cp:revision>
  <dc:subject/>
  <dc:title>PowerPoint 簡報</dc:title>
</cp:coreProperties>
</file>