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8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0.wmf" ContentType="image/x-wmf"/>
  <Override PartName="/ppt/media/image31.jpeg" ContentType="image/jpeg"/>
  <Override PartName="/ppt/media/image30.jpeg" ContentType="image/jpeg"/>
  <Override PartName="/ppt/media/image7.wmf" ContentType="image/x-wmf"/>
  <Override PartName="/ppt/media/image12.wmf" ContentType="image/x-wmf"/>
  <Override PartName="/ppt/media/image9.wmf" ContentType="image/x-wmf"/>
  <Override PartName="/ppt/media/image8.wmf" ContentType="image/x-wmf"/>
  <Override PartName="/ppt/media/image37.jpeg" ContentType="image/jpeg"/>
  <Override PartName="/ppt/media/image33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34.jpeg" ContentType="image/jpeg"/>
  <Override PartName="/ppt/media/image35.jpeg" ContentType="image/jpeg"/>
  <Override PartName="/ppt/media/image27.jpeg" ContentType="image/jpeg"/>
  <Override PartName="/ppt/media/image13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3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374-3319-4575-8286-9ADF83D4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06CC-66A9-477B-A339-6D68B913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0DD-0BA2-440C-975F-68C40E06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7284-A1A1-4150-A24B-681F4ACC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048-B252-4F91-A718-79FA0167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B10B-272D-49E0-BBAA-F955C4AF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2B5-EE3A-4366-96A4-D0CDBE80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6E1-F224-48F7-82FD-C4E07BD3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E6B1-4983-4629-B277-0FF64ACE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26EA-5421-4BFA-A3A6-EC899098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1447-F8FA-4746-ABB7-8BB7ED98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8A1-B092-486A-A2FA-0A37D634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813E-F235-4107-875E-962135D5331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31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pplied Regressio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771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ff"/>
                </a:solidFill>
                <a:latin typeface="Times New Roman"/>
              </a:rPr>
              <a:t>Draper N. R. and Smith, 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66ff"/>
                </a:solidFill>
                <a:latin typeface="Times New Roman"/>
              </a:rPr>
              <a:t>Instructor: Yuh-Ing 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2003/9/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ore on 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1. The LS line goes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emove       from the model by centering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105520" y="1676520"/>
                <a:ext cx="88560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971800" y="2133720"/>
                <a:ext cx="380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695600" y="2666880"/>
                <a:ext cx="630540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bSup>
                          <m:e>
                            <m:eqAr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ε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ε</m:t>
                                </m:r>
                              </m:e>
                              <m:e>
                                <m:r>
                                  <m:t xml:space="preserve">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sSub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ε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,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here 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 ,  {</m:t>
                                </m:r>
                                <m:r>
                                  <m:t xml:space="preserve">β</m:t>
                                </m:r>
                              </m:e>
                            </m:eqAr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and  {</m:t>
                        </m:r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96" name=""/>
          <p:cNvGraphicFramePr/>
          <p:nvPr/>
        </p:nvGraphicFramePr>
        <p:xfrm>
          <a:off x="1539720" y="4700520"/>
          <a:ext cx="662652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9720" y="4700520"/>
                    <a:ext cx="662652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867280" y="60800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nalysis of Vari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Note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Sum of squares          Sum of squares           Sum of squares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bout the mean          due to regression         about reg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Corrected S.S.) = (Regression S.S) + (Residual S.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828800" y="1905120"/>
                <a:ext cx="32097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676520" y="2438280"/>
                <a:ext cx="2949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76520" y="3048120"/>
                <a:ext cx="5236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914400" y="3886200"/>
                <a:ext cx="4935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819520" y="3886200"/>
                <a:ext cx="4968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 flipH="1">
            <a:off x="2362320" y="35053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00400" y="3886200"/>
                <a:ext cx="835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638680" y="3886200"/>
                <a:ext cx="4971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019920" y="3886200"/>
                <a:ext cx="7966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8305920" y="3886200"/>
                <a:ext cx="4968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4648320" y="35053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3505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29240" y="1957320"/>
            <a:ext cx="1165320" cy="405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391440" y="2286000"/>
            <a:ext cx="139356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5460840" cy="91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244520" y="1676520"/>
            <a:ext cx="6527880" cy="2184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5765760" cy="863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86400" y="5681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Example-ANO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523880" y="1295280"/>
                <a:ext cx="14972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am Dat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1676520"/>
                <a:ext cx="5819760" cy="42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8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715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rrecte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02-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3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5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idual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58-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34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486400" y="5681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R   statis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54080" y="861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14600" y="1754280"/>
          <a:ext cx="372888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4600" y="1754280"/>
                    <a:ext cx="37288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676520" y="3048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fficient of de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3581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uare of multiple correlation co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4114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057400" y="4114800"/>
                <a:ext cx="5865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portion of total variation about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explained 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by the regress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778040" y="5029200"/>
                <a:ext cx="57657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am data  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5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44</m:t>
                    </m:r>
                    <m:r>
                      <m:rPr>
                        <m:lit/>
                        <m:nor/>
                      </m:rPr>
                      <m:t xml:space="preserve"> or 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486400" y="59277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Times New Roman"/>
              </a:rPr>
              <a:t>Confidence intervals and tests for regression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~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~ i.i.d N(                       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Fig 1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09480" y="2133720"/>
                <a:ext cx="3429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952880" y="2286000"/>
                <a:ext cx="16002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66680" y="3048120"/>
                <a:ext cx="1447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666880" y="3048120"/>
                <a:ext cx="1905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066680" y="3657600"/>
                <a:ext cx="2286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657600" y="3733920"/>
                <a:ext cx="16002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90720" y="4105440"/>
                <a:ext cx="3952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7200" y="4710240"/>
                <a:ext cx="9144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743200" y="4702320"/>
                <a:ext cx="20574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562720" y="4800600"/>
                <a:ext cx="16002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ferenc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02160" y="3295800"/>
            <a:ext cx="139680" cy="266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766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86200" y="838080"/>
            <a:ext cx="598320" cy="685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85800" y="1971720"/>
            <a:ext cx="457200" cy="542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676520" y="2023920"/>
            <a:ext cx="4419360" cy="567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1676520" y="2514600"/>
            <a:ext cx="5105160" cy="533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1981080" y="3581280"/>
            <a:ext cx="3505320" cy="455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5715000" y="3571920"/>
            <a:ext cx="1676520" cy="390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533520" y="4243320"/>
            <a:ext cx="7924680" cy="480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09480" y="4952880"/>
                <a:ext cx="46483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Note</a:t>
            </a:r>
            <a:r>
              <a:rPr b="0" lang="zh-TW" sz="32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              ,                    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So,     ~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with                 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Where            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905120" y="685800"/>
                <a:ext cx="152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749760" y="730080"/>
                <a:ext cx="17953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516720" y="762120"/>
                <a:ext cx="1697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447920" y="1828800"/>
                <a:ext cx="3967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828800" y="2900520"/>
                <a:ext cx="14335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343400" y="2895480"/>
                <a:ext cx="22096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/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828800" y="3962520"/>
                <a:ext cx="2209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5048280"/>
                <a:ext cx="10670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05320" y="5105520"/>
                <a:ext cx="3619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/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ferenc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Confidence interval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Where                              is the                   percentage 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of  a  t-distribution with  d.f  n-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Tes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Reject                       in favor of                       at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609480"/>
                <a:ext cx="598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114800" y="1371600"/>
                <a:ext cx="5875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371600" y="2000160"/>
                <a:ext cx="5029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,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676520" y="2666880"/>
                <a:ext cx="19047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,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648320" y="2705040"/>
                <a:ext cx="10285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362320" y="342900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219320" y="4038480"/>
                <a:ext cx="3733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676520" y="464832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724280" y="4648320"/>
                <a:ext cx="1295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705720" y="4695840"/>
                <a:ext cx="914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71600" y="5105520"/>
            <a:ext cx="3581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ample-inference f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Steam data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n=25,         = -0.0798,                      =0.01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t(23,0.975) =2.0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The 95% confidence limits for        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Tes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-0.0798/0.010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-7.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Since                                                 reject        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724280" y="533520"/>
            <a:ext cx="598680" cy="609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048120" y="1295280"/>
            <a:ext cx="338040" cy="393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876920" y="1258920"/>
            <a:ext cx="914400" cy="493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1219320" y="1800360"/>
            <a:ext cx="914400" cy="257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5037120" y="2057400"/>
            <a:ext cx="449280" cy="45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219320" y="2666880"/>
                <a:ext cx="4190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447920" y="3352680"/>
                <a:ext cx="27558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98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295280" y="3809880"/>
                <a:ext cx="3581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247840" y="4114800"/>
                <a:ext cx="1333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219320" y="4572000"/>
                <a:ext cx="2590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523880" y="5791320"/>
                <a:ext cx="3657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&gt;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943600" y="5764320"/>
                <a:ext cx="4190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010280" y="5762520"/>
                <a:ext cx="9144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Response variables = Y-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= outpu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= dependen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Predictor variables = X-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                              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= inpu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                              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= independen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= explanatory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ample - inferenc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Test of                            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Reject or not reject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Test of                            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Reject or not reject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Test of                             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Reject or not reject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257800" y="457200"/>
                <a:ext cx="59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162160" y="1349280"/>
                <a:ext cx="19526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724280" y="1419120"/>
                <a:ext cx="9144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305080" y="2514600"/>
                <a:ext cx="1760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724280" y="2562120"/>
                <a:ext cx="9144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209680" y="4114800"/>
                <a:ext cx="19526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724280" y="4191120"/>
                <a:ext cx="914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22680" y="264960"/>
                <a:ext cx="30891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erence for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295280" y="990720"/>
                <a:ext cx="54532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, 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69720" y="2362320"/>
                <a:ext cx="8496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265400" y="2031840"/>
                <a:ext cx="6811920" cy="22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nd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/n</m:t>
                            </m:r>
                          </m:e>
                        </m:nary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, 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rPr>
                            <m:lit/>
                            <m:nor/>
                          </m:rPr>
                          <m:t xml:space="preserve"> s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/n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076400" y="4213080"/>
                <a:ext cx="6772320" cy="21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1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%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for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   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, then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n favor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under 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F-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600200" y="1297080"/>
                <a:ext cx="6157800" cy="24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then 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g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, if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then 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g</m:t>
                            </m:r>
                          </m:sub>
                        </m:sSub>
                        <m:r>
                          <m:t xml:space="preserve">/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under α 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00200" y="3962520"/>
                <a:ext cx="49528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rPr>
                            <m:lit/>
                            <m:nor/>
                          </m:rPr>
                          <m:t xml:space="preserve"> comput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-valu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observed F valu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Example F-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838080" y="1447920"/>
                <a:ext cx="60199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am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4/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2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&gt;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,23,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s reject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In fact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-valv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0</m:t>
                        </m:r>
                        <m:r>
                          <m:t xml:space="preserve">(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09480" y="3200400"/>
                <a:ext cx="12193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800280" y="3809880"/>
                <a:ext cx="5981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ν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p-value of the F-tes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-value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wo-sided t-te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rrelation between X and 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47920" y="993600"/>
                <a:ext cx="459576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arson   correlation    coeffici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-1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447920" y="2362320"/>
                <a:ext cx="497844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ample  correlation  coeffici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</m:e>
                            </m:nary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nary>
                                  </m:e>
                                </m:nary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0880" y="3962520"/>
                <a:ext cx="8096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347840" y="3733920"/>
                <a:ext cx="4246560" cy="21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95280" y="5838840"/>
                <a:ext cx="47055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    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est for corre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62120" y="990720"/>
                <a:ext cx="37051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Fisher's  Z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ransformat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286000" y="1371600"/>
                <a:ext cx="45482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h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23960" y="2286000"/>
                <a:ext cx="6907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An approximate 1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 is given by solv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±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ρ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90720" y="3733920"/>
                <a:ext cx="6480000" cy="27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wo confidence limits for 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 a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and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57200" y="635040"/>
                <a:ext cx="8305920" cy="30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test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implemented by comput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for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or      Z</m:t>
                        </m:r>
                        <m:r>
                          <m:t xml:space="preserve">&gt;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←</m:t>
                            </m:r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for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ρ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09480" y="3886200"/>
                <a:ext cx="7844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419120" y="3886200"/>
                <a:ext cx="665820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esting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, we can us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and compare it to appropriate percentiles of 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ma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371600" y="1066680"/>
                <a:ext cx="4167360" cy="30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ir Francis Galto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22-191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1877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reversion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1885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regression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parent's heigh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hild's heigh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511280" y="4191120"/>
                <a:ext cx="55389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Gaus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77-185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efore 180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or  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egendr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52-183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on 180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able1.1" descr=""/>
          <p:cNvPicPr/>
          <p:nvPr/>
        </p:nvPicPr>
        <p:blipFill>
          <a:blip r:embed="rId1"/>
          <a:stretch/>
        </p:blipFill>
        <p:spPr>
          <a:xfrm>
            <a:off x="914400" y="0"/>
            <a:ext cx="679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figure1.2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7941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Example -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9960" y="1185840"/>
            <a:ext cx="7864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.g. 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Y  =  Consumption (thousand doll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=  Income (thousand doll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.g. 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Y  =  tensile strength (g/cm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=  fiber content (g/cm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.g. 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 Y  =  man h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 order (thousand doll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 Sub-Company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.g. 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 Y  =  price of a house (thousand doll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 area of the house (m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 location of the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 Personal Net Income (thousand doll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523880" y="297180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523880" y="33526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23880" y="4800600"/>
                <a:ext cx="457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23880" y="403848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523880" y="441972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392160" y="601992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figure1.3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figure1.4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figure1.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figure1.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able1.3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able1.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68760"/>
          </a:xfrm>
          <a:prstGeom prst="rect">
            <a:avLst/>
          </a:prstGeom>
          <a:ln w="0">
            <a:noFill/>
          </a:ln>
        </p:spPr>
      </p:pic>
      <p:pic>
        <p:nvPicPr>
          <p:cNvPr id="250" name="table1.5" descr=""/>
          <p:cNvPicPr/>
          <p:nvPr/>
        </p:nvPicPr>
        <p:blipFill>
          <a:blip r:embed="rId2"/>
          <a:stretch/>
        </p:blipFill>
        <p:spPr>
          <a:xfrm>
            <a:off x="0" y="4191120"/>
            <a:ext cx="91440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able1.6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figure1.8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9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392160" y="617220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Regress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9960" y="103356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variable = Model function + Random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905120" y="1600200"/>
                <a:ext cx="45720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1822680" y="2209680"/>
            <a:ext cx="52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 A first – order linear regression mode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20760" y="2819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905120" y="2819520"/>
                <a:ext cx="40780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823760" y="3429000"/>
            <a:ext cx="55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 A second – order linear regression mode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49568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e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. Scatter plot of Y v.s. X  (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Table 1.1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amp;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Fig. 1.4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ange or region of X  (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Fig. 1.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amp;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Fig. 1.3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392160" y="617220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east Squares Estimation (L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62120" y="1295280"/>
                <a:ext cx="7162560" cy="10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del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838080" y="2590920"/>
                <a:ext cx="61549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i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"/>
          <p:cNvGraphicFramePr/>
          <p:nvPr/>
        </p:nvGraphicFramePr>
        <p:xfrm>
          <a:off x="452520" y="3352680"/>
          <a:ext cx="7781760" cy="5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352680"/>
                    <a:ext cx="778176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Derivation - 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92160" y="617220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000" y="1143000"/>
            <a:ext cx="40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squares (SS) function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828800" y="1676520"/>
                <a:ext cx="57150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08200" y="2819520"/>
                <a:ext cx="6918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uch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hat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38080" y="3733920"/>
                <a:ext cx="426744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Derivation – LSE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92160" y="617220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1000" y="83808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819520" y="1219320"/>
                <a:ext cx="34290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61976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392160" y="617220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0200" y="684360"/>
            <a:ext cx="10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e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01800" y="762120"/>
            <a:ext cx="4675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SE-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22400" y="2282760"/>
            <a:ext cx="6521400" cy="106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038240" y="3305160"/>
            <a:ext cx="5362560" cy="1724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86" name=""/>
          <p:cNvGraphicFramePr/>
          <p:nvPr/>
        </p:nvGraphicFramePr>
        <p:xfrm>
          <a:off x="1066680" y="5072040"/>
          <a:ext cx="626616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072040"/>
                    <a:ext cx="62661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990720" y="1295280"/>
          <a:ext cx="30225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295280"/>
                    <a:ext cx="302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638680" y="6232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09-30T01:14:03Z</dcterms:modified>
  <cp:revision>23</cp:revision>
  <dc:subject/>
  <dc:title>PowerPoint 簡報</dc:title>
</cp:coreProperties>
</file>