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8.wmf" ContentType="image/x-wmf"/>
  <Override PartName="/ppt/media/image37.jpeg" ContentType="image/jpeg"/>
  <Override PartName="/ppt/media/image3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34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F82-F9C6-44E1-A4FA-2F1C3F31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E17-CFC3-44A2-A402-41B0BBE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D4A-A2A9-4504-B854-8F8B7223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43D-42E4-4BBC-AF2B-5C30DC46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01A-5AE6-4E18-983E-E6FA9E5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579-FAF4-4655-B783-CDB146E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445-CB04-4D20-B7DB-E26874E9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51A-9DC3-4C3D-ACD6-0F22A16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B35-ACB3-4C6D-A60D-2D3A215E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4C9-C00C-4E97-997F-24E262F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1DB-C18E-44BD-800E-1925F96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551-0718-4CB2-BF07-E1290DE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C51-12E2-4C59-B927-DFA5ABEB052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31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ed Regressio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Draper N. R. and Smith,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ff"/>
                </a:solidFill>
                <a:latin typeface="Times New Roman"/>
              </a:rPr>
              <a:t>Instructor: Yuh-Ing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2003/9/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ore on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1. The LS line goe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move       from the model by centering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105520" y="1676520"/>
                <a:ext cx="885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71800" y="2133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95600" y="2666880"/>
                <a:ext cx="63054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bSup>
                          <m:e>
                            <m:eqAr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e>
                              <m:e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,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here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 ,  {</m:t>
                                </m:r>
                                <m:r>
                                  <m:t xml:space="preserve">β</m:t>
                                </m:r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and  {</m:t>
                        </m:r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1539720" y="4700520"/>
          <a:ext cx="66265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4700520"/>
                    <a:ext cx="66265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6080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alysis of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um of squares          Sum of squares           Sum of squares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bout the mean          due to regression         about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Corrected S.S.) = (Regression S.S) + (Residual S.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28800" y="1905120"/>
                <a:ext cx="3209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76520" y="2438280"/>
                <a:ext cx="294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3048120"/>
                <a:ext cx="5236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3886200"/>
                <a:ext cx="493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95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H="1">
            <a:off x="2362320" y="3505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886200"/>
                <a:ext cx="83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638680" y="3886200"/>
                <a:ext cx="49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9920" y="3886200"/>
                <a:ext cx="796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3059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648320" y="3505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50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240" y="1957320"/>
            <a:ext cx="1165320" cy="40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91440" y="2286000"/>
            <a:ext cx="139356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46084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44520" y="1676520"/>
            <a:ext cx="6527880" cy="218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765760" cy="86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-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295280"/>
                <a:ext cx="1497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676520"/>
                <a:ext cx="581976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2-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-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34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   stat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54080" y="86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4600" y="1754280"/>
          <a:ext cx="37288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754280"/>
                    <a:ext cx="37288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7652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of multiple correlat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114800"/>
                <a:ext cx="5865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portion of total variation about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explained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by th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778040" y="5029200"/>
                <a:ext cx="5765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 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4</m:t>
                    </m:r>
                    <m:r>
                      <m:rPr>
                        <m:lit/>
                        <m:nor/>
                      </m:rPr>
                      <m:t xml:space="preserve"> or 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486400" y="5927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Times New Roman"/>
              </a:rPr>
              <a:t>Confidence intervals and tests for regressio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 i.i.d N(                       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Fig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9480" y="2133720"/>
                <a:ext cx="3429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52880" y="22860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3048120"/>
                <a:ext cx="1447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66880" y="3048120"/>
                <a:ext cx="1905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6680" y="3657600"/>
                <a:ext cx="2286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3733920"/>
                <a:ext cx="16002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90720" y="4105440"/>
                <a:ext cx="3952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" y="4710240"/>
                <a:ext cx="914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43200" y="4702320"/>
                <a:ext cx="2057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562720" y="48006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216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766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1971720"/>
            <a:ext cx="457200" cy="542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676520" y="2023920"/>
            <a:ext cx="4419360" cy="56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76520" y="2514600"/>
            <a:ext cx="510516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981080" y="3581280"/>
            <a:ext cx="3505320" cy="455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715000" y="3571920"/>
            <a:ext cx="167652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33520" y="4243320"/>
            <a:ext cx="7924680" cy="4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4952880"/>
                <a:ext cx="4648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,   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So,     ~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ith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           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905120" y="6858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49760" y="730080"/>
                <a:ext cx="179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16720" y="762120"/>
                <a:ext cx="1697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47920" y="1828800"/>
                <a:ext cx="396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28800" y="2900520"/>
                <a:ext cx="1433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43400" y="2895480"/>
                <a:ext cx="2209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28800" y="3962520"/>
                <a:ext cx="2209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5048280"/>
                <a:ext cx="1067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05320" y="5105520"/>
                <a:ext cx="36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Confidence interva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Where                              is the                   percentage 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f  a  t-distribution with  d.f  n-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                      in favor of                       at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609480"/>
                <a:ext cx="59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14800" y="1371600"/>
                <a:ext cx="587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71600" y="2000160"/>
                <a:ext cx="502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76520" y="2666880"/>
                <a:ext cx="1904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48320" y="2705040"/>
                <a:ext cx="1028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429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19320" y="4038480"/>
                <a:ext cx="373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64832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4648320"/>
                <a:ext cx="129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705720" y="469584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3581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-inference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team data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n=25,         = -0.0798,                      =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(23,0.975) =2.0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e 95% confidence limits for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0.0798/0.01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7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ce                                                 reject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338040" cy="39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876920" y="12589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219320" y="1800360"/>
            <a:ext cx="914400" cy="25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037120" y="2057400"/>
            <a:ext cx="44928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19320" y="2666880"/>
                <a:ext cx="4190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7920" y="3352680"/>
                <a:ext cx="275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98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95280" y="3809880"/>
                <a:ext cx="3581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47840" y="4114800"/>
                <a:ext cx="1333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19320" y="4572000"/>
                <a:ext cx="25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3880" y="5791320"/>
                <a:ext cx="3657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5764320"/>
                <a:ext cx="419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0280" y="57625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Response variables = Y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out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Predictor variables = X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explanato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 - 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257800" y="457200"/>
                <a:ext cx="5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62160" y="134928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24280" y="1419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05080" y="2514600"/>
                <a:ext cx="1760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24280" y="2562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411480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24280" y="419112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22680" y="264960"/>
                <a:ext cx="308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 for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990720"/>
                <a:ext cx="54532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69720" y="2362320"/>
                <a:ext cx="8496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65400" y="2031840"/>
                <a:ext cx="68119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/n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76400" y="4213080"/>
                <a:ext cx="677232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then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favor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der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F-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600200" y="1297080"/>
                <a:ext cx="61578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</m:sSub>
                        <m:r>
                          <m:t xml:space="preserve">/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under α 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00200" y="3962520"/>
                <a:ext cx="49528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 comput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u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observed F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Example F-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38080" y="1447920"/>
                <a:ext cx="60199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/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23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s rejec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In fact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v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09480" y="3200400"/>
                <a:ext cx="121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00280" y="3809880"/>
                <a:ext cx="5981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-value of the F-tes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-value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o-sided t-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rrelation between X and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47920" y="993600"/>
                <a:ext cx="45957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arson   correlation  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-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47920" y="2362320"/>
                <a:ext cx="4978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ple  correlation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</m:e>
                            </m:nary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962520"/>
                <a:ext cx="809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347840" y="3733920"/>
                <a:ext cx="424656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95280" y="5838840"/>
                <a:ext cx="4705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 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st fo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62120" y="990720"/>
                <a:ext cx="37051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Fisher's  Z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ansform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1371600"/>
                <a:ext cx="454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23960" y="2286000"/>
                <a:ext cx="6907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An approximate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is given by solv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90720" y="3733920"/>
                <a:ext cx="6480000" cy="27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 confidence limits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a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and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" y="635040"/>
                <a:ext cx="830592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test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implemented by comput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r      Z</m:t>
                        </m:r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←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ρ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480" y="3886200"/>
                <a:ext cx="784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19120" y="3886200"/>
                <a:ext cx="665820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esting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we can u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and compare it to appropriate percentiles of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71600" y="1066680"/>
                <a:ext cx="4167360" cy="30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r Francis Galto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22-191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77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ver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85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gres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parent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hild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11280" y="4191120"/>
                <a:ext cx="5538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Gaus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77-185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fore 180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or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egendr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2-183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n 18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able1.1" descr=""/>
          <p:cNvPicPr/>
          <p:nvPr/>
        </p:nvPicPr>
        <p:blipFill>
          <a:blip r:embed="rId1"/>
          <a:stretch/>
        </p:blipFill>
        <p:spPr>
          <a:xfrm>
            <a:off x="91440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igure1.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 -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9960" y="1185840"/>
            <a:ext cx="7864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Consumption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tensile strength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fiber content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man h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order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Sub-Company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price of a hous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area of the house (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location of the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Personal Net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23880" y="29718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3880" y="3352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23880" y="4800600"/>
                <a:ext cx="457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038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39216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figure1.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figure1.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figure1.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igure1.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able1.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able1.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68760"/>
          </a:xfrm>
          <a:prstGeom prst="rect">
            <a:avLst/>
          </a:prstGeom>
          <a:ln w="0">
            <a:noFill/>
          </a:ln>
        </p:spPr>
      </p:pic>
      <p:pic>
        <p:nvPicPr>
          <p:cNvPr id="250" name="table1.5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able1.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igure1.8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gress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960" y="10335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variable = Model function + Random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5120" y="1600200"/>
                <a:ext cx="4572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822680" y="220968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first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2819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05120" y="2819520"/>
                <a:ext cx="4078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823760" y="342900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second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95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Scatter plot of Y v.s.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1.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Fig. 1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ange or region of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Fig. 1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Fig. 1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east Squares Estimation (L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2120" y="1295280"/>
                <a:ext cx="716256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838080" y="2590920"/>
                <a:ext cx="6154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52520" y="3352680"/>
          <a:ext cx="778176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352680"/>
                    <a:ext cx="778176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-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000" y="114300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squares (SS) fun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1676520"/>
                <a:ext cx="5715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08200" y="2819520"/>
                <a:ext cx="691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uc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at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3733920"/>
                <a:ext cx="42674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– LSE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000" y="8380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1219320"/>
                <a:ext cx="3429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6197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00" y="68436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01800" y="762120"/>
            <a:ext cx="4675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SE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2400" y="2282760"/>
            <a:ext cx="6521400" cy="106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38240" y="3305160"/>
            <a:ext cx="5362560" cy="172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1066680" y="5072040"/>
          <a:ext cx="62661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072040"/>
                    <a:ext cx="62661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90720" y="1295280"/>
          <a:ext cx="30225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295280"/>
                    <a:ext cx="302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6232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14:03Z</dcterms:modified>
  <cp:revision>23</cp:revision>
  <dc:subject/>
  <dc:title>PowerPoint 簡報</dc:title>
</cp:coreProperties>
</file>