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9F0-EF3E-4928-A25B-08534EA5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BBBF-1467-4742-9C5B-F75C1628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A768-7D9A-4327-9530-1D97A2F4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9DE-A796-4DE0-B363-C9669978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790B-10ED-4851-B4CE-F6657865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1AE-BA18-4881-9027-C3B5AC49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CD7-240F-4141-A612-1D8D158D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8F8-01D7-42CB-8D18-8BB251D0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57D5-9F13-4845-AF03-B82E42F9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2F4-6914-431B-97DC-FBCDB17B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2B7-DF6D-42AF-A3E2-20E4140D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5CC4-72D8-4ADA-BF3C-C5882938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02DE-8CF7-44D8-86C1-444F62CFF92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581280" y="457200"/>
                <a:ext cx="26672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cial Topic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295280" y="1295280"/>
                <a:ext cx="5824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Inference  on  response variabl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nterval estimation of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ediction of 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verse  regressio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3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0"/>
            <a:ext cx="792468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185920" y="304920"/>
                <a:ext cx="5052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ference</m:t>
                    </m:r>
                    <m:r>
                      <m:rPr>
                        <m:lit/>
                        <m:nor/>
                      </m:rPr>
                      <m:t xml:space="preserve"> On response variab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001880" y="1092240"/>
                <a:ext cx="28447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752480" y="2236680"/>
                <a:ext cx="4543560" cy="36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 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where  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this implies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33520" y="22860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98880" y="304920"/>
                <a:ext cx="2158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I for 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066680" y="990720"/>
                <a:ext cx="4192560" cy="30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,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nd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s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e>
                          <m:e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</m:t>
                            </m:r>
                            <m:r>
                              <m:t xml:space="preserve">α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438280" y="152280"/>
                <a:ext cx="3786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20760" y="655560"/>
                <a:ext cx="8593200" cy="30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eam data n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,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4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est va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3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52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6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15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2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31692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31692</m:t>
                                </m:r>
                              </m:e>
                            </m:ra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80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A 95% C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for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a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             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98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8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6</m:t>
                        </m:r>
                        <m:r>
                          <m:t xml:space="preserve">,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9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6172200" y="6384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3962520"/>
                <a:ext cx="8332920" cy="24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eqAr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t 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6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2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79829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8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est var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923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1</m:t>
                                    </m:r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5</m:t>
                                    </m:r>
                                    <m:r>
                                      <m:t xml:space="preserve">+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8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52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6</m:t>
                                            </m:r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154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42</m:t>
                                    </m:r>
                                  </m:e>
                                </m: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9548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s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=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95480</m:t>
                                    </m:r>
                                  </m:e>
                                </m:rad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9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A 95%  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 for  {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eqAr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t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  is</m:t>
                    </m:r>
                    <m:r>
                      <m:rPr>
                        <m:lit/>
                        <m:nor/>
                      </m:rPr>
                      <m:t xml:space="preserve">      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40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2922480" y="380880"/>
                <a:ext cx="24116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exampl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5800" y="914400"/>
                <a:ext cx="7632720" cy="30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 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,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9829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8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est 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3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76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6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60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715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480</m:t>
                    </m:r>
                    <m:r>
                      <m:rPr>
                        <m:lit/>
                        <m:nor/>
                      </m:rPr>
                      <m:t xml:space="preserve">      s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548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90</m:t>
                    </m:r>
                    <m:r>
                      <m:rPr>
                        <m:lit/>
                        <m:nor/>
                      </m:rPr>
                      <m:t xml:space="preserve">A 95%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I for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X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9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90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43000" y="4162320"/>
                <a:ext cx="707544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he loi of 95% confidence bands for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+</m:t>
                        </m:r>
                        <m:r>
                          <m:t xml:space="preserve">d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or 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s  for  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have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same width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28600" y="41911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819520" y="228600"/>
                <a:ext cx="2871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diction of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57080" y="838080"/>
                <a:ext cx="8015400" cy="37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t 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the new Y is </m:t>
                            </m:r>
                          </m:e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ε</m:t>
                            </m:r>
                          </m:e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iction of 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is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however,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So, a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% prediction interval of 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is </m:t>
                    </m:r>
                    <m:r>
                      <m:rPr>
                        <m:lit/>
                        <m:nor/>
                      </m:rPr>
                      <m:t xml:space="preserve">  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±</m:t>
                    </m:r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,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130400" y="4800600"/>
                <a:ext cx="6794280" cy="15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the mean of q new Y observations 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the  associated</m:t>
                        </m:r>
                      </m:e>
                      <m:e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is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/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04920" y="480060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770200" y="76320"/>
                <a:ext cx="31734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231920" y="887400"/>
                <a:ext cx="5460840" cy="513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itte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to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or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, wish to predict 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   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and X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can be obtained by solvin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 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s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U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d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where t</m:t>
                    </m:r>
                    <m:r>
                      <m:t xml:space="preserve">=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-2,1-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/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438280" y="380880"/>
                <a:ext cx="43182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re - Inverse Regress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824040" y="1547640"/>
                <a:ext cx="7570800" cy="391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oth equation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reduce to 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         P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QX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solutions lead to 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g</m:t>
                            </m:r>
                            <m:r>
                              <m:t xml:space="preserve">±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s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</m:den>
                                </m:f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p>
                                          <m:e>
                                            <m:d>
                                              <m:dPr>
                                                <m:begChr m:val="("/>
                                                <m:endChr m:val=")"/>
                                              </m:dPr>
                                              <m:e>
                                                <m:sSub>
                                                  <m:e>
                                                    <m:acc>
                                                      <m:accPr>
                                                        <m:chr m:val="^"/>
                                                      </m:accPr>
                                                      <m:e>
                                                        <m:r>
                                                          <m:t xml:space="preserve">X</m:t>
                                                        </m:r>
                                                      </m:e>
                                                    </m:acc>
                                                  </m:e>
                                                  <m:sub>
                                                    <m:r>
                                                      <m:t xml:space="preserve">0</m:t>
                                                    </m:r>
                                                  </m:sub>
                                                </m:sSub>
                                                <m:r>
                                                  <m:t xml:space="preserve">−</m:t>
                                                </m:r>
                                                <m:acc>
                                                  <m:accPr>
                                                    <m:chr m:val="¯"/>
                                                  </m:accPr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</m:acc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S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xx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g</m:t>
                                        </m:r>
                                      </m:e>
                                    </m:d>
                                    <m:r>
                                      <m:t xml:space="preserve">/</m:t>
                                    </m:r>
                                    <m:r>
                                      <m:t xml:space="preserve">n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g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2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p>
                            </m:sSup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study of drug effect -duratio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3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8:05Z</dcterms:modified>
  <cp:revision>37</cp:revision>
  <dc:subject/>
  <dc:title>PowerPoint 簡報</dc:title>
</cp:coreProperties>
</file>