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689-96EF-483C-88C3-1FC38194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62F4-30A0-42C6-A9AA-E386F5B1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A69-5B2C-41B3-8170-826EB68C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5DC-FDA9-4802-83F3-4876D43B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EB19-8CA7-4571-A436-8DEE9286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ABC-A231-4600-9A2B-1CB6087D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DD95-90A1-4614-8088-E76C4A6A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9621-4C51-4B51-92F1-96A6D4D1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DBAE-A5CD-4F53-BDAB-C119DC9F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CCF-3927-4FCB-9580-30E9D98A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27FB-6659-4104-B1ED-D439A028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456-A019-415E-AE05-2B5CAD76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6DE4-F492-4915-B08F-32D317EEFC9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581280" y="457200"/>
                <a:ext cx="26672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cial Topi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295280" y="1295280"/>
                <a:ext cx="58248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Inference  on  response variab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nterval estimation of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diction of 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verse  regress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380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igure3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0"/>
            <a:ext cx="79246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185920" y="304920"/>
                <a:ext cx="50529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erence</m:t>
                    </m:r>
                    <m:r>
                      <m:rPr>
                        <m:lit/>
                        <m:nor/>
                      </m:rPr>
                      <m:t xml:space="preserve"> On response variab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001880" y="1092240"/>
                <a:ext cx="2844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 for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752480" y="2236680"/>
                <a:ext cx="4543560" cy="36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where  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this implies 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33520" y="228600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98880" y="304920"/>
                <a:ext cx="21589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I for 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066680" y="990720"/>
                <a:ext cx="4192560" cy="30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orma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,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s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0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−</m:t>
                                                </m:r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acc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x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for 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s 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438280" y="152280"/>
                <a:ext cx="3786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I for 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xam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20760" y="655560"/>
                <a:ext cx="8593200" cy="30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eam data n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,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3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At 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4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est va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3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6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6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15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1692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31692</m:t>
                                </m:r>
                              </m:e>
                            </m:ra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80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A 95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for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t 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rPr>
                        <m:lit/>
                        <m:nor/>
                      </m:rPr>
                      <m:t xml:space="preserve">                    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98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8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6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172200" y="6384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85800" y="3962520"/>
                <a:ext cx="8332920" cy="24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eqAr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t 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2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9829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8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est 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923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28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6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52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6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15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2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9548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se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=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95480</m:t>
                                    </m:r>
                                  </m:e>
                                </m:ra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9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A 95%  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 for  {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eqAr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t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  is</m:t>
                    </m:r>
                    <m:r>
                      <m:rPr>
                        <m:lit/>
                        <m:nor/>
                      </m:rPr>
                      <m:t xml:space="preserve">      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922480" y="380880"/>
                <a:ext cx="241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re exam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85800" y="914400"/>
                <a:ext cx="7632720" cy="30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 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,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982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est 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3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6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0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1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5480</m:t>
                    </m:r>
                    <m:r>
                      <m:rPr>
                        <m:lit/>
                        <m:nor/>
                      </m:rPr>
                      <m:t xml:space="preserve">      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548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90</m:t>
                    </m:r>
                    <m:r>
                      <m:rPr>
                        <m:lit/>
                        <m:nor/>
                      </m:rPr>
                      <m:t xml:space="preserve">A 95%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I for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0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43000" y="4162320"/>
                <a:ext cx="707544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loi of 95% confidence bands for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 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r 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s  for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have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same width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28600" y="419112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819520" y="228600"/>
                <a:ext cx="2871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diction of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57080" y="838080"/>
                <a:ext cx="8015400" cy="37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the new Y is 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</m:e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ediction of 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s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however,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            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So, a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% prediction interval of 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rPr>
                        <m:lit/>
                        <m:nor/>
                      </m:rPr>
                      <m:t xml:space="preserve">    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130400" y="4800600"/>
                <a:ext cx="679428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mean of q new Y observations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  associated</m:t>
                        </m:r>
                      </m:e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is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2,1-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/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04920" y="480060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770200" y="76320"/>
                <a:ext cx="3173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rs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231920" y="887400"/>
                <a:ext cx="5460840" cy="513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tted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to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or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wish to predict 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and X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can be obtained by solvin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where t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-2,1-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/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438280" y="380880"/>
                <a:ext cx="4318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re - Invers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24040" y="1547640"/>
                <a:ext cx="7570800" cy="391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th equation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reduce to 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P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solutions lead to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g</m:t>
                            </m:r>
                            <m:r>
                              <m:t xml:space="preserve">±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s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</m:den>
                                </m:f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^"/>
                                                      </m:accPr>
                                                      <m:e>
                                                        <m:r>
                                                          <m:t xml:space="preserve">X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0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−</m:t>
                                                </m:r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acc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x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g</m:t>
                                        </m:r>
                                      </m:e>
                                    </m:d>
                                    <m:r>
                                      <m:t xml:space="preserve">/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g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2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x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tudy of drug effect -dur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figure3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09-30T01:08:05Z</dcterms:modified>
  <cp:revision>37</cp:revision>
  <dc:subject/>
  <dc:title>PowerPoint 簡報</dc:title>
</cp:coreProperties>
</file>