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D5D2-99CE-430D-96C6-B5591081B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6C60-8C69-4012-B6F4-0F5A9B66D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15A3-9A5B-4BBC-B391-1F1CA1FB9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9B1A-4611-4500-9940-97F2E30AD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2075-9B3A-434F-A4C4-6E9E570CC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9B6C-AA14-40FC-A903-3906EA218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C693-B7B8-4FAD-90B3-CC4B9D464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2D0A-6846-49AD-8650-3D1AA7FE5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F774-862D-4589-86D0-B5B32650B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A33E-82FA-4419-B561-D6BDBB3D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8CD2-D415-4D9C-88A7-BD384B1A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FB2C-FEB4-40B2-A18A-BDEBE5AE0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9D32E-60CF-4D7E-BDD2-A7FE4CF7DB55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581280" y="457200"/>
                <a:ext cx="266724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pecial Topic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1295280" y="1295280"/>
                <a:ext cx="5824800" cy="17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Inference  on  response variable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Interval estimation of </m:t>
                        </m:r>
                        <m:r>
                          <m:t xml:space="preserve">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X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rediction of 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verse  regressio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3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3808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hapter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figure3.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0"/>
            <a:ext cx="792468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2185920" y="304920"/>
                <a:ext cx="505296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ference</m:t>
                    </m:r>
                    <m:r>
                      <m:rPr>
                        <m:lit/>
                        <m:nor/>
                      </m:rPr>
                      <m:t xml:space="preserve"> On response variabl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001880" y="1092240"/>
                <a:ext cx="284472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I  for 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{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752480" y="2236680"/>
                <a:ext cx="4543560" cy="363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  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where  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e>
                            </m:nary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this implies </m:t>
                        </m:r>
                        <m:r>
                          <m:rPr>
                            <m:lit/>
                            <m:nor/>
                          </m:rPr>
                          <m:t xml:space="preserve">cov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</m:d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x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acc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xx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533520" y="2286000"/>
                <a:ext cx="78408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te :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3098880" y="304920"/>
                <a:ext cx="21589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I for E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066680" y="990720"/>
                <a:ext cx="4192560" cy="30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eqArr>
                          <m:e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ormal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,var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^"/>
                                          </m:accPr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d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nd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e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s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n</m:t>
                                        </m:r>
                                      </m:den>
                                    </m:f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sSup>
                                          <m:e>
                                            <m:d>
                                              <m:dPr>
                                                <m:begChr m:val="("/>
                                                <m:endChr m:val=")"/>
                                              </m:dPr>
                                              <m:e>
                                                <m:sSub>
                                                  <m:e>
                                                    <m:r>
                                                      <m:t xml:space="preserve">X</m:t>
                                                    </m:r>
                                                  </m:e>
                                                  <m:sub>
                                                    <m:r>
                                                      <m:t xml:space="preserve">0</m:t>
                                                    </m:r>
                                                  </m:sub>
                                                </m:sSub>
                                                <m:r>
                                                  <m:t xml:space="preserve">−</m:t>
                                                </m:r>
                                                <m:acc>
                                                  <m:accPr>
                                                    <m:chr m:val="¯"/>
                                                  </m:accPr>
                                                  <m:e>
                                                    <m:r>
                                                      <m:t xml:space="preserve">X</m:t>
                                                    </m:r>
                                                  </m:e>
                                                </m:acc>
                                              </m:e>
                                            </m:d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xx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</m:e>
                          <m:e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 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-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% 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 for 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is 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{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</m:eqAr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±</m:t>
                    </m:r>
                    <m:r>
                      <m:t xml:space="preserve">t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,1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se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2438280" y="152280"/>
                <a:ext cx="37864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I for E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exampl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320760" y="655560"/>
                <a:ext cx="8593200" cy="300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eqAr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team data n</m:t>
                            </m:r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,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923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x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5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</m:e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At 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24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est va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923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52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t xml:space="preserve">6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52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t xml:space="preserve">6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715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42</m:t>
                                </m:r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31692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   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e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=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31692</m:t>
                                </m:r>
                              </m:e>
                            </m:rad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80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A 95% 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 for  {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</m:eqAr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at 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 is </m:t>
                    </m:r>
                    <m:r>
                      <m:rPr>
                        <m:lit/>
                        <m:nor/>
                      </m:rPr>
                      <m:t xml:space="preserve">                    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4</m:t>
                    </m:r>
                    <m:r>
                      <m:t xml:space="preserve">±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9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798</m:t>
                        </m:r>
                      </m:e>
                    </m:d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4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8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6</m:t>
                        </m:r>
                        <m:r>
                          <m:t xml:space="preserve">,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9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6172200" y="638496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685800" y="3962520"/>
                <a:ext cx="8332920" cy="24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sSub>
                          <m:e>
                            <m:eqAr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t 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8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6</m:t>
                                </m:r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 Y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3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62</m:t>
                                    </m:r>
                                  </m:e>
                                </m:d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79829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8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6</m:t>
                                    </m:r>
                                  </m:e>
                                </m:d>
                                <m:r>
                                  <m:t xml:space="preserve">=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0</m:t>
                                </m:r>
                              </m:e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est var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^"/>
                                          </m:accPr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7923</m:t>
                                </m:r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/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5</m:t>
                                    </m:r>
                                    <m:r>
                                      <m:t xml:space="preserve">+</m:t>
                                    </m:r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28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.</m:t>
                                            </m:r>
                                            <m:r>
                                              <m:t xml:space="preserve">6</m:t>
                                            </m:r>
                                            <m:r>
                                              <m:t xml:space="preserve">−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52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.</m:t>
                                            </m:r>
                                            <m:r>
                                              <m:t xml:space="preserve">6</m:t>
                                            </m:r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/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7154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42</m:t>
                                    </m:r>
                                  </m:e>
                                </m:d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95480</m:t>
                                </m:r>
                              </m:e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    se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^"/>
                                          </m:accPr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=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95480</m:t>
                                    </m:r>
                                  </m:e>
                                </m:rad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090</m:t>
                                </m:r>
                              </m:e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A 95%  C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I for  {</m:t>
                                </m:r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</m:eqAr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t 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  is</m:t>
                    </m:r>
                    <m:r>
                      <m:rPr>
                        <m:lit/>
                        <m:nor/>
                      </m:rPr>
                      <m:t xml:space="preserve">      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40</m:t>
                    </m:r>
                    <m:r>
                      <m:t xml:space="preserve">±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9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090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40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39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79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2922480" y="380880"/>
                <a:ext cx="24116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re exampl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685800" y="914400"/>
                <a:ext cx="7632720" cy="30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t 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,  {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3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9829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7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8</m:t>
                        </m:r>
                      </m:e>
                    </m:eqArr>
                    <m:r>
                      <m:rPr>
                        <m:lit/>
                        <m:nor/>
                      </m:rPr>
                      <m:t xml:space="preserve">est var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923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76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6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52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60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15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95480</m:t>
                    </m:r>
                    <m:r>
                      <m:rPr>
                        <m:lit/>
                        <m:nor/>
                      </m:rPr>
                      <m:t xml:space="preserve">      se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5480</m:t>
                        </m:r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090</m:t>
                    </m:r>
                    <m:r>
                      <m:rPr>
                        <m:lit/>
                        <m:nor/>
                      </m:rPr>
                      <m:t xml:space="preserve">A 95% 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I for 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sSub>
                      <m:e/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at 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  <m:sSub>
                      <m:e/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 is 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8</m:t>
                    </m:r>
                    <m:r>
                      <m:t xml:space="preserve">±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9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090</m:t>
                        </m:r>
                      </m:e>
                    </m:d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8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3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43000" y="4162320"/>
                <a:ext cx="7075440" cy="17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the loi of 95% confidence bands for 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Fi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  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d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or 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t xml:space="preserve">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I s  for  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have the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same width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228600" y="4191120"/>
                <a:ext cx="78408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te :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2819520" y="228600"/>
                <a:ext cx="28717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ediction of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757080" y="838080"/>
                <a:ext cx="8015400" cy="37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eqAr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 X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the new Y is </m:t>
                            </m:r>
                          </m:e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w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ε</m:t>
                            </m:r>
                          </m:e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rediction of 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w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is  {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</m:eqAr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however,</m:t>
                    </m:r>
                    <m:r>
                      <m:rPr>
                        <m:lit/>
                        <m:nor/>
                      </m:rPr>
                      <m:t xml:space="preserve">var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var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var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                      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/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x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So, a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-</m:t>
                    </m:r>
                    <m:r>
                      <m:t xml:space="preserve">α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% prediction interval of 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is </m:t>
                    </m:r>
                    <m:r>
                      <m:rPr>
                        <m:lit/>
                        <m:nor/>
                      </m:rPr>
                      <m:t xml:space="preserve">      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sSub>
                      <m:e/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±</m:t>
                    </m:r>
                    <m:r>
                      <m:t xml:space="preserve">t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,1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s</m:t>
                    </m:r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x</m:t>
                                </m:r>
                              </m:sub>
                            </m:sSub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1130400" y="4800600"/>
                <a:ext cx="6794280" cy="15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the mean of q new Y observations 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the  associated</m:t>
                        </m:r>
                      </m:e>
                      <m:e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I is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{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±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-2,1-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/2</m:t>
                        </m:r>
                        <m:r>
                          <m:t xml:space="preserve">)</m:t>
                        </m:r>
                        <m:r>
                          <m:t xml:space="preserve">s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m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acc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xx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/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304920" y="4800600"/>
                <a:ext cx="78408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te :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2770200" y="76320"/>
                <a:ext cx="31734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verse Regressio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231920" y="887400"/>
                <a:ext cx="5460840" cy="513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itted  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   to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i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,2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,n</m:t>
                        </m:r>
                      </m:e>
                    </m:eqAr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or 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, wish to predict 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     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and X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can be obtained by solving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ts</m:t>
                    </m:r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L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acc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xx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ts</m:t>
                    </m:r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U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</m:d>
                              </m:num>
                              <m:den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xx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rPr>
                        <m:lit/>
                        <m:nor/>
                      </m:rPr>
                      <m:t xml:space="preserve">where t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n-2,1-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/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2438280" y="380880"/>
                <a:ext cx="43182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re - Inverse Regressio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824040" y="1547640"/>
                <a:ext cx="7570800" cy="391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oth equation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reduce to 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               P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QX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solutions lead to 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</m:d>
                            <m:r>
                              <m:t xml:space="preserve">g</m:t>
                            </m:r>
                            <m:r>
                              <m:t xml:space="preserve">±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s</m:t>
                                    </m:r>
                                  </m:num>
                                  <m:den>
                                    <m:r>
                                      <m:t xml:space="preserve">b</m:t>
                                    </m:r>
                                  </m:den>
                                </m:f>
                              </m:e>
                            </m:d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d>
                                      <m:dPr>
                                        <m:begChr m:val="["/>
                                        <m:endChr m:val="]"/>
                                      </m:dPr>
                                      <m:e>
                                        <m:sSup>
                                          <m:e>
                                            <m:d>
                                              <m:dPr>
                                                <m:begChr m:val="("/>
                                                <m:endChr m:val=")"/>
                                              </m:dPr>
                                              <m:e>
                                                <m:sSub>
                                                  <m:e>
                                                    <m:acc>
                                                      <m:accPr>
                                                        <m:chr m:val="^"/>
                                                      </m:accPr>
                                                      <m:e>
                                                        <m:r>
                                                          <m:t xml:space="preserve">X</m:t>
                                                        </m:r>
                                                      </m:e>
                                                    </m:acc>
                                                  </m:e>
                                                  <m:sub>
                                                    <m:r>
                                                      <m:t xml:space="preserve">0</m:t>
                                                    </m:r>
                                                  </m:sub>
                                                </m:sSub>
                                                <m:r>
                                                  <m:t xml:space="preserve">−</m:t>
                                                </m:r>
                                                <m:acc>
                                                  <m:accPr>
                                                    <m:chr m:val="¯"/>
                                                  </m:accPr>
                                                  <m:e>
                                                    <m:r>
                                                      <m:t xml:space="preserve">X</m:t>
                                                    </m:r>
                                                  </m:e>
                                                </m:acc>
                                              </m:e>
                                            </m:d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  <m:r>
                                          <m:t xml:space="preserve">/</m:t>
                                        </m:r>
                                        <m:sSub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xx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  <m:r>
                                      <m:t xml:space="preserve">+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g</m:t>
                                        </m:r>
                                      </m:e>
                                    </m:d>
                                    <m:r>
                                      <m:t xml:space="preserve">/</m:t>
                                    </m:r>
                                    <m:r>
                                      <m:t xml:space="preserve">n</m:t>
                                    </m:r>
                                  </m:e>
                                </m:d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g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 g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2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p>
                            </m:sSup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x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/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/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/</m:t>
                                    </m:r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xx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i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xample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study of drug effect -duratio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figure3.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6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4T08:35:43Z</dcterms:created>
  <dc:creator>user</dc:creator>
  <dc:description/>
  <dc:language>en-US</dc:language>
  <cp:lastModifiedBy>stat</cp:lastModifiedBy>
  <dcterms:modified xsi:type="dcterms:W3CDTF">2003-09-30T01:08:05Z</dcterms:modified>
  <cp:revision>37</cp:revision>
  <dc:subject/>
  <dc:title>PowerPoint 簡報</dc:title>
</cp:coreProperties>
</file>