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A76-9116-4C19-B30B-7775409A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390-DA73-4843-9CED-2F1EBE3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899-3CE9-4FDE-8D4E-F8E32D18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92F-83A9-4C9D-87A1-01372F9C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051-8CDB-483A-A870-3EB6A6FD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894-2897-45E8-8DA8-E3581A6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EB2-B19A-453A-A10E-3D6986B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E0C-A819-4EDE-A391-C8E1BB15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934-41A5-4EC3-9D7F-DBBF8C84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4D1-05E2-4934-82D0-F3E5DB3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4FD-CE9D-49FC-BFA9-5CB5DEC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750-FD0C-4880-BE4A-B309FC17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020B-3620-4137-88E5-B6595691B93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.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able2.5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1600200"/>
                <a:ext cx="736308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430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.2a.1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a.2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a.3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a.4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a.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a.5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fig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Fig2.6        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4:34Z</dcterms:modified>
  <cp:revision>8</cp:revision>
  <dc:subject/>
  <dc:title>PowerPoint 簡報</dc:title>
</cp:coreProperties>
</file>